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E8B5C-C635-4B38-BAC0-2F76D31D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9CC6-6BB8-4FB7-97CF-75871E89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BF077-025B-4E67-A59F-D33E75D9B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B0570-F260-42E5-A142-6BFD2658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73EFE-E59E-4B6C-8D06-E370EF9A6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91679-443B-4E76-B4FA-CE39F0570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1BB70-9FF9-4C3C-84D5-D8F82BDBD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DB25A-B672-4E4C-BD09-A56CB20BD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5769E-6322-4663-9B7F-1C065BF83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33F2B-E865-445B-8D5E-02BA833C2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1291D-B1A4-4D27-9FEA-44788C09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28FC-20ED-4743-9695-C48227405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8E932-043A-4685-9864-1EF8E485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1F351-B12D-4674-B7CE-A75C3EB5C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EFC46-FA81-46BE-9773-327CF98ED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5E6A4-23EE-49A1-8776-58BDF2427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717FA-3A87-4C16-B2E3-1F7D77DCB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454B-E7CC-4766-961E-272F2FF2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6B2B5-41A7-4E60-96DB-8CBC4F35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76091-5BF1-4F86-9040-64B83A37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6EC6B-E19D-4A7A-986B-C25C278E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6C850-3E6A-4F54-AF9F-5E3ECD51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0C10-D80A-47AF-A2A0-15AF5A45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320E-388F-465C-BEAB-71F725E68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42800" y="178128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976-39E2-4996-9757-6CBF1540A7AD}"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1230-B426-4179-8BF3-72D148FB06B5}" type="slidenum">
              <a:rPr b="0" lang="en-US"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B%20i%20l%20a%20n%20%20%20e%20n%20v%20i%20r%20o%20n%20n%20e%20m%20e%20n%20t%201999.pdf"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34840" y="1555920"/>
            <a:ext cx="614988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Engagement</a:t>
            </a:r>
            <a:br>
              <a:rPr sz="5400"/>
            </a:br>
            <a:r>
              <a:rPr b="0" lang="en-US" sz="5400" spc="-1" strike="noStrike">
                <a:solidFill>
                  <a:srgbClr val="ffffcc"/>
                </a:solidFill>
                <a:latin typeface="Tahoma"/>
              </a:rPr>
              <a:t>de l’entreprise</a:t>
            </a:r>
            <a:br>
              <a:rPr sz="5400"/>
            </a:br>
            <a:r>
              <a:rPr b="0" lang="en-US" sz="5400" spc="-1" strike="noStrike">
                <a:solidFill>
                  <a:srgbClr val="ffffcc"/>
                </a:solidFill>
                <a:latin typeface="Tahoma"/>
              </a:rPr>
              <a:t>en Environnement</a:t>
            </a:r>
            <a:endParaRPr b="0" lang="en-US" sz="54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4932360" y="260280"/>
            <a:ext cx="396072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DUCTION DES EMISSIONS LIEES A LA COMBUSTION DES CARBUR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0" y="482436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Aquazole: Emulsion qui compre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13% d’eau, 84% de gazole et 3% d’additifs organiqu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l’Aquazole réduit considérablement l’émis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de particules polluantes et l’opacité des fumé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c"/>
                </a:solidFill>
                <a:latin typeface="Tahoma"/>
              </a:rPr>
              <a:t>rejetées, et cela, sans modification des mote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34920" y="44280"/>
            <a:ext cx="259236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c"/>
                </a:solidFill>
                <a:latin typeface="Tahoma"/>
              </a:rPr>
              <a:t>COLLECTE SELECTIVE ET BENNE        BI-MODE</a:t>
            </a:r>
            <a:endParaRPr b="0" lang="en-US" sz="2800" spc="-1" strike="noStrike">
              <a:solidFill>
                <a:srgbClr val="ffffff"/>
              </a:solidFill>
              <a:latin typeface="Arial"/>
            </a:endParaRPr>
          </a:p>
        </p:txBody>
      </p:sp>
      <p:sp>
        <p:nvSpPr>
          <p:cNvPr id="121" name=""/>
          <p:cNvSpPr/>
          <p:nvPr/>
        </p:nvSpPr>
        <p:spPr>
          <a:xfrm>
            <a:off x="2843280" y="115920"/>
            <a:ext cx="3529080" cy="2226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CONTRÔLE DES EMISSIONS, TRI ET RECYCLAGE DES DECH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3635280" y="5045040"/>
            <a:ext cx="5329440" cy="169344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TRAITEMENT DES LICIVIATS ET VALORISATION DU BIOGA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5003640" y="1844640"/>
            <a:ext cx="4105440" cy="27597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CONCEPTION DE BATIMENTS MIEUX INTEGRES AU PAYSAGE ET MOINS POLLU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3203640" y="189000"/>
            <a:ext cx="4608360" cy="116028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CYCLAGE DES DECHETS DE CHANT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3348000" y="3892680"/>
            <a:ext cx="5472000" cy="13122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c"/>
                </a:solidFill>
                <a:latin typeface="Tahoma"/>
              </a:rPr>
              <a:t>INTEGRATION PAYSAGERE DES INSTAL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éfinition de méthodes et d’instruments de mesure au sein d’équipes aptes à analyser par métier l’impact des activités sur l’environnemen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ntrôle systématique de la conformité réglementaire et développement de capacités d’anticipation basées sur la veille active pour mieux gérer les risques environnementaux.</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troduction systématique des économies d’énergie, de la réduction des déchets et de la lutte contre le gaspillage de l’eau.</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gramme d’action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826920"/>
            <a:ext cx="7772400" cy="4114800"/>
          </a:xfrm>
          <a:prstGeom prst="rect">
            <a:avLst/>
          </a:prstGeom>
          <a:noFill/>
          <a:ln w="0">
            <a:noFill/>
          </a:ln>
        </p:spPr>
        <p:txBody>
          <a:bodyPr lIns="90000" rIns="90000" tIns="46800" bIns="46800" anchor="t">
            <a:normAutofit fontScale="78000"/>
          </a:bodyPr>
          <a:p>
            <a:pPr marL="267480" indent="-2674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cc00"/>
                </a:solidFill>
                <a:latin typeface="Tahoma"/>
              </a:rPr>
              <a:t>La cogénération:    </a:t>
            </a:r>
            <a:endParaRPr b="0" lang="en-US" sz="4000" spc="-1" strike="noStrike">
              <a:solidFill>
                <a:srgbClr val="ffffff"/>
              </a:solidFill>
              <a:latin typeface="Tahoma"/>
            </a:endParaRPr>
          </a:p>
          <a:p>
            <a:pPr marL="267480" indent="-2674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cc00"/>
                </a:solidFill>
                <a:latin typeface="Tahoma"/>
              </a:rPr>
              <a:t>L’optimisation énergétique proposée par Dalkia Utilities a permis à Zeneca, sur le seul site d’Huddersfield, d’économiser 2,5 millions de livres par an sur ses dépenses d’énergie, et de réduire les émissions de dioxyde de 40%.</a:t>
            </a:r>
            <a:endParaRPr b="0" lang="en-US" sz="4000" spc="-1" strike="noStrike">
              <a:solidFill>
                <a:srgbClr val="ffffff"/>
              </a:solidFill>
              <a:latin typeface="Tahoma"/>
            </a:endParaRPr>
          </a:p>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ntensification des efforts de recherche et de développement en faveur de la qualité environnementale, avec le souci de réaliser des transferts de technologie, en particulier à l’internat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Promotion systématique dans les sites industriels et les processus qui y sont mis en œuvre, de dispositifs susceptibles de réduire les consommations et les reje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55640" y="44280"/>
            <a:ext cx="8199360" cy="4114800"/>
          </a:xfrm>
          <a:prstGeom prst="rect">
            <a:avLst/>
          </a:prstGeom>
          <a:noFill/>
          <a:ln w="0">
            <a:noFill/>
          </a:ln>
        </p:spPr>
        <p:txBody>
          <a:bodyPr lIns="90000" rIns="90000" tIns="46800" bIns="46800" anchor="t">
            <a:normAutofit fontScale="74000"/>
          </a:bodyPr>
          <a:p>
            <a:pPr marL="253800" indent="-25380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Dialogue permanent avec tous les acteurs et partenaires de l’environnement dans un esprit de transparence et de réalisme : clients, élus, pouvoirs publics, associations de consommateurs et de protection de l'environnement, organismes scolaires, communautés scientifiques ainsi que fournisseurs et sous-traita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55640" y="1978200"/>
            <a:ext cx="819936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obilisation de tous les moyens de formation tant interne qu’externe pour développer le professionnalisme et la conscience environnementa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5640" y="2193840"/>
            <a:ext cx="819936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Communication régulière sur l’état de réalisation du programme pluriannuel et ses résultats.</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55280" y="44280"/>
            <a:ext cx="8388360" cy="4114800"/>
          </a:xfrm>
          <a:prstGeom prst="rect">
            <a:avLst/>
          </a:prstGeom>
          <a:noFill/>
          <a:ln w="0">
            <a:noFill/>
          </a:ln>
        </p:spPr>
        <p:txBody>
          <a:bodyPr lIns="90000" rIns="90000" tIns="46800" bIns="46800" anchor="t">
            <a:normAutofit fontScale="75000"/>
          </a:bodyPr>
          <a:p>
            <a:pPr marL="257040" indent="-25704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Utilisation des nouvelles technologies de l’information et de la communication (NTIC) pour accélérer l’intégration de la politique environnementale au sein des métiers, favoriser les échanges avec les acteurs et partenaires de l’environnement et, plus généralement, bâtir un système moderne de management environnement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3399"/>
                </a:solidFill>
                <a:uFillTx/>
                <a:latin typeface="Tahoma"/>
                <a:hlinkClick r:id="rId1"/>
              </a:rPr>
              <a:t>L’ EXEMPLE  DE VIVENDI</a:t>
            </a:r>
            <a:endParaRPr b="0" lang="en-US" sz="4400" spc="-1" strike="noStrike">
              <a:solidFill>
                <a:srgbClr val="ffffcc"/>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Elaboration et mise en place d’indicateurs tout à la fois propres à chaque métier et transversaux pour l’ensemble de l’entrepris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4428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826920" y="189000"/>
            <a:ext cx="3961080" cy="10083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c"/>
                </a:solidFill>
                <a:latin typeface="Tahoma"/>
              </a:rPr>
              <a:t>DIMINUTION DE L’USAGE DE VOITURES PARTICULIERES</a:t>
            </a:r>
            <a:endParaRPr b="0" lang="en-US" sz="2000" spc="-1" strike="noStrike">
              <a:solidFill>
                <a:srgbClr val="ffffff"/>
              </a:solidFill>
              <a:latin typeface="Arial"/>
            </a:endParaRPr>
          </a:p>
        </p:txBody>
      </p:sp>
      <p:sp>
        <p:nvSpPr>
          <p:cNvPr id="106" name=""/>
          <p:cNvSpPr/>
          <p:nvPr/>
        </p:nvSpPr>
        <p:spPr>
          <a:xfrm>
            <a:off x="6156360" y="115920"/>
            <a:ext cx="2736720" cy="178308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INSONORISATION</a:t>
            </a: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DES</a:t>
            </a:r>
            <a:endParaRPr b="0" lang="en-US" sz="2000" spc="-1" strike="noStrike">
              <a:solidFill>
                <a:srgbClr val="ffffff"/>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MATERIELS</a:t>
            </a:r>
            <a:endParaRPr b="0" lang="en-US" sz="2000" spc="-1" strike="noStrike">
              <a:solidFill>
                <a:srgbClr val="ffffff"/>
              </a:solidFill>
              <a:latin typeface="Arial"/>
            </a:endParaRPr>
          </a:p>
        </p:txBody>
      </p:sp>
      <p:pic>
        <p:nvPicPr>
          <p:cNvPr id="107" name="" descr=""/>
          <p:cNvPicPr/>
          <p:nvPr/>
        </p:nvPicPr>
        <p:blipFill>
          <a:blip r:embed="rId2"/>
          <a:stretch/>
        </p:blipFill>
        <p:spPr>
          <a:xfrm>
            <a:off x="324000" y="2238480"/>
            <a:ext cx="2495520" cy="23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5075280" y="260280"/>
            <a:ext cx="3960720" cy="14655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SURVEILLANCE DES RESEAUX, CONTRÔLE DES ODEURS ET DES REJE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4920" y="0"/>
            <a:ext cx="9109080" cy="6858000"/>
          </a:xfrm>
          <a:prstGeom prst="rect">
            <a:avLst/>
          </a:prstGeom>
          <a:ln w="0">
            <a:noFill/>
          </a:ln>
        </p:spPr>
      </p:pic>
      <p:sp>
        <p:nvSpPr>
          <p:cNvPr id="111" name=""/>
          <p:cNvSpPr/>
          <p:nvPr/>
        </p:nvSpPr>
        <p:spPr>
          <a:xfrm>
            <a:off x="108000" y="5756400"/>
            <a:ext cx="3960720" cy="55116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c"/>
                </a:solidFill>
                <a:latin typeface="Tahoma"/>
              </a:rPr>
              <a:t>LUTTE ANTIFU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1116000" y="60480"/>
            <a:ext cx="3960720" cy="156492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c"/>
                </a:solidFill>
                <a:latin typeface="Tahoma"/>
              </a:rPr>
              <a:t>CARACTERISATION DES BOUES D’EPANDAGE</a:t>
            </a:r>
            <a:endParaRPr b="0" lang="en-US" sz="2800" spc="-1" strike="noStrike">
              <a:solidFill>
                <a:srgbClr val="ffffff"/>
              </a:solidFill>
              <a:latin typeface="Arial"/>
            </a:endParaRPr>
          </a:p>
        </p:txBody>
      </p:sp>
      <p:sp>
        <p:nvSpPr>
          <p:cNvPr id="114" name=""/>
          <p:cNvSpPr/>
          <p:nvPr/>
        </p:nvSpPr>
        <p:spPr>
          <a:xfrm>
            <a:off x="3132000" y="5516640"/>
            <a:ext cx="3311640" cy="1074600"/>
          </a:xfrm>
          <a:prstGeom prst="rect">
            <a:avLst/>
          </a:prstGeom>
          <a:solidFill>
            <a:srgbClr val="ffffff"/>
          </a:solidFill>
          <a:ln w="76320">
            <a:solidFill>
              <a:srgbClr val="00000c"/>
            </a:solidFill>
            <a:miter/>
          </a:ln>
        </p:spPr>
        <p:style>
          <a:lnRef idx="0"/>
          <a:fillRef idx="0"/>
          <a:effectRef idx="0"/>
          <a:fontRef idx="minor"/>
        </p:style>
        <p:txBody>
          <a:bodyPr lIns="90000" rIns="90000" tIns="46800" bIns="46800" anchor="t">
            <a:spAutoFit/>
          </a:bodyPr>
          <a:p>
            <a:pPr algn="ct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c"/>
                </a:solidFill>
                <a:latin typeface="Tahoma"/>
              </a:rPr>
              <a:t>RECYCLAGE DU PAP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09:25:09Z</dcterms:created>
  <dc:creator>SALEM</dc:creator>
  <dc:description/>
  <dc:language>en-US</dc:language>
  <cp:lastModifiedBy>SALEM</cp:lastModifiedBy>
  <dcterms:modified xsi:type="dcterms:W3CDTF">2003-02-24T10:16:39Z</dcterms:modified>
  <cp:revision>19</cp:revision>
  <dc:subject/>
  <dc:title>Les systèmes de management de l’hygiène, de la sécurité et de l’environnement (HSE)</dc:title>
</cp:coreProperties>
</file>