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2B2EC-8EAE-4A9A-B5AE-CEA2B5B21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FBAA5-0DA4-4118-95C6-4C6C45B8A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D3284-7907-4F1F-B001-D7E1A64E0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22F00-DD58-4CD5-BD8B-C70AE443F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08D8CD-B6CC-4A1C-A6D6-704A85108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95E49-179C-417D-86E3-D44267B1A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E56AA-A359-4FFC-9383-16DA24C24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9ACA8-DE06-4A1D-AF34-2762027F0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2D92E-1B55-4825-9A6A-78C6AD1BD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676160"/>
            <a:ext cx="7772400" cy="677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DB70F-F835-4B90-B412-78E53C910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CA6B9-3183-4537-9212-C3F1C50FA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043AC-77B5-49C2-8FBE-15F753346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C8D45-AE2E-425D-BE24-A28B53258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FC439-339E-4671-B169-70EE7512A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BA63B-1430-4452-A17E-FCB05BADD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A6AC96-A073-4DDA-B7E8-4A8A632CC1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0487C2-0E29-49B7-B3F5-A78480B39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D78DE-4957-4C95-82E1-02F910DC4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2C464-E99C-41CB-90E1-D98DAA7A9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A13B8-A2F9-4166-A01D-543556840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676160"/>
            <a:ext cx="7772400" cy="677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B1721-59D8-49B2-B793-60669E584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696F3-DEB8-43A5-B8E7-B669BCBF1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FB21F-B648-4D71-891F-C39B92B3B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13BD6-EC88-4346-A0A5-9435B8AA1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800280" y="1098720"/>
            <a:ext cx="328320" cy="47448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541440" y="152100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11160" y="1521000"/>
            <a:ext cx="368280" cy="47448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127080" y="1447920"/>
            <a:ext cx="56016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42800" y="1781280"/>
            <a:ext cx="8226360" cy="3168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1A6A-886F-4F04-AB91-E6DDB6ED9503}" type="slidenum">
              <a:rPr b="0" lang="en-US"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673560" y="2546280"/>
                <a:ext cx="32832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783000" y="2968560"/>
                <a:ext cx="36900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5" name=""/>
            <p:cNvSpPr/>
            <p:nvPr/>
          </p:nvSpPr>
          <p:spPr>
            <a:xfrm>
              <a:off x="0" y="2895480"/>
              <a:ext cx="56052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flipV="1">
              <a:off x="316080" y="3260520"/>
              <a:ext cx="8692920" cy="5544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date/time&gt;</a:t>
            </a:r>
            <a:endParaRPr b="0" lang="en-US" sz="1400" spc="-1" strike="noStrike">
              <a:solidFill>
                <a:srgbClr val="ffffff"/>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footer&gt;</a:t>
            </a:r>
            <a:endParaRPr b="0" lang="en-US" sz="1400" spc="-1" strike="noStrike">
              <a:solidFill>
                <a:srgbClr val="ffffff"/>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4AC6-A1A2-48B8-B407-45A04921212E}" type="slidenum">
              <a:rPr b="0" lang="en-US" sz="1400" spc="-1" strike="noStrike">
                <a:solidFill>
                  <a:srgbClr val="000094"/>
                </a:solidFill>
                <a:latin typeface="Tahoma"/>
              </a:rPr>
              <a:t>&lt;number&gt;</a:t>
            </a:fld>
            <a:endParaRPr b="0" lang="en-US" sz="1400" spc="-1" strike="noStrike">
              <a:solidFill>
                <a:srgbClr val="ffffff"/>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B%20i%20l%20a%20n%20%20%20e%20n%20v%20i%20r%20o%20n%20n%20e%20m%20e%20n%20t%201999.pdf" TargetMode="External"/><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34840" y="1555920"/>
            <a:ext cx="6149880" cy="14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Engagement</a:t>
            </a:r>
            <a:br>
              <a:rPr sz="5400"/>
            </a:br>
            <a:r>
              <a:rPr b="0" lang="en-US" sz="5400" spc="-1" strike="noStrike">
                <a:solidFill>
                  <a:srgbClr val="ffffcc"/>
                </a:solidFill>
                <a:latin typeface="Tahoma"/>
              </a:rPr>
              <a:t>de l’entreprise</a:t>
            </a:r>
            <a:br>
              <a:rPr sz="5400"/>
            </a:br>
            <a:r>
              <a:rPr b="0" lang="en-US" sz="5400" spc="-1" strike="noStrike">
                <a:solidFill>
                  <a:srgbClr val="ffffcc"/>
                </a:solidFill>
                <a:latin typeface="Tahoma"/>
              </a:rPr>
              <a:t>en Environnement</a:t>
            </a:r>
            <a:endParaRPr b="0" lang="en-US" sz="5400" spc="-1" strike="noStrike">
              <a:solidFill>
                <a:srgbClr val="ffffc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
        <p:nvSpPr>
          <p:cNvPr id="116" name=""/>
          <p:cNvSpPr/>
          <p:nvPr/>
        </p:nvSpPr>
        <p:spPr>
          <a:xfrm>
            <a:off x="4932360" y="260280"/>
            <a:ext cx="3960720" cy="222660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c"/>
                </a:solidFill>
                <a:latin typeface="Tahoma"/>
              </a:rPr>
              <a:t>REDUCTION DES EMISSIONS LIEES A LA COMBUSTION DES CARBURA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
          <p:cNvSpPr/>
          <p:nvPr/>
        </p:nvSpPr>
        <p:spPr>
          <a:xfrm>
            <a:off x="0" y="4824360"/>
            <a:ext cx="91440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c"/>
                </a:solidFill>
                <a:latin typeface="Tahoma"/>
              </a:rPr>
              <a:t>Aquazole: Emulsion qui compren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c"/>
                </a:solidFill>
                <a:latin typeface="Tahoma"/>
              </a:rPr>
              <a:t>13% d’eau, 84% de gazole et 3% d’additifs organiqu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c"/>
                </a:solidFill>
                <a:latin typeface="Tahoma"/>
              </a:rPr>
              <a:t>l’Aquazole réduit considérablement l’émiss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c"/>
                </a:solidFill>
                <a:latin typeface="Tahoma"/>
              </a:rPr>
              <a:t>de particules polluantes et l’opacité des fumé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c"/>
                </a:solidFill>
                <a:latin typeface="Tahoma"/>
              </a:rPr>
              <a:t>rejetées, et cela, sans modification des moteu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
          <p:cNvSpPr/>
          <p:nvPr/>
        </p:nvSpPr>
        <p:spPr>
          <a:xfrm>
            <a:off x="34920" y="44280"/>
            <a:ext cx="2592360" cy="222660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c"/>
                </a:solidFill>
                <a:latin typeface="Tahoma"/>
              </a:rPr>
              <a:t>COLLECTE SELECTIVE ET BENNE        BI-MODE</a:t>
            </a:r>
            <a:endParaRPr b="0" lang="en-US" sz="2800" spc="-1" strike="noStrike">
              <a:solidFill>
                <a:srgbClr val="ffffff"/>
              </a:solidFill>
              <a:latin typeface="Arial"/>
            </a:endParaRPr>
          </a:p>
        </p:txBody>
      </p:sp>
      <p:sp>
        <p:nvSpPr>
          <p:cNvPr id="121" name=""/>
          <p:cNvSpPr/>
          <p:nvPr/>
        </p:nvSpPr>
        <p:spPr>
          <a:xfrm>
            <a:off x="2843280" y="115920"/>
            <a:ext cx="3529080" cy="222660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c"/>
                </a:solidFill>
                <a:latin typeface="Tahoma"/>
              </a:rPr>
              <a:t>CONTRÔLE DES EMISSIONS, TRI ET RECYCLAGE DES DECH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
          <p:cNvSpPr/>
          <p:nvPr/>
        </p:nvSpPr>
        <p:spPr>
          <a:xfrm>
            <a:off x="3635280" y="5045040"/>
            <a:ext cx="5329440" cy="169344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c"/>
                </a:solidFill>
                <a:latin typeface="Tahoma"/>
              </a:rPr>
              <a:t>TRAITEMENT DES LICIVIATS ET VALORISATION DU BIOGA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
        <p:nvSpPr>
          <p:cNvPr id="125" name=""/>
          <p:cNvSpPr/>
          <p:nvPr/>
        </p:nvSpPr>
        <p:spPr>
          <a:xfrm>
            <a:off x="5003640" y="1844640"/>
            <a:ext cx="4105440" cy="275976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c"/>
                </a:solidFill>
                <a:latin typeface="Tahoma"/>
              </a:rPr>
              <a:t>CONCEPTION DE BATIMENTS MIEUX INTEGRES AU PAYSAGE ET MOINS POLLUA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127" name=""/>
          <p:cNvSpPr/>
          <p:nvPr/>
        </p:nvSpPr>
        <p:spPr>
          <a:xfrm>
            <a:off x="3203640" y="189000"/>
            <a:ext cx="4608360" cy="116028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c"/>
                </a:solidFill>
                <a:latin typeface="Tahoma"/>
              </a:rPr>
              <a:t>RECYCLAGE DES DECHETS DE CHANTI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3348000" y="3892680"/>
            <a:ext cx="5472000" cy="131220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c"/>
                </a:solidFill>
                <a:latin typeface="Tahoma"/>
              </a:rPr>
              <a:t>INTEGRATION PAYSAGERE DES INSTALL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Définition de méthodes et d’instruments de mesure au sein d’équipes aptes à analyser par métier l’impact des activités sur l’environnemen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Contrôle systématique de la conformité réglementaire et développement de capacités d’anticipation basées sur la veille active pour mieux gérer les risques environnementaux.</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Introduction systématique des économies d’énergie, de la réduction des déchets et de la lutte contre le gaspillage de l’eau.</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gramme d’actions</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182600" y="826920"/>
            <a:ext cx="7772400" cy="4114800"/>
          </a:xfrm>
          <a:prstGeom prst="rect">
            <a:avLst/>
          </a:prstGeom>
          <a:noFill/>
          <a:ln w="0">
            <a:noFill/>
          </a:ln>
        </p:spPr>
        <p:txBody>
          <a:bodyPr lIns="90000" rIns="90000" tIns="46800" bIns="46800" anchor="t">
            <a:normAutofit fontScale="78000"/>
          </a:bodyPr>
          <a:p>
            <a:pPr marL="267480" indent="-26748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cc00"/>
                </a:solidFill>
                <a:latin typeface="Tahoma"/>
              </a:rPr>
              <a:t>La cogénération:    </a:t>
            </a:r>
            <a:endParaRPr b="0" lang="en-US" sz="4000" spc="-1" strike="noStrike">
              <a:solidFill>
                <a:srgbClr val="ffffff"/>
              </a:solidFill>
              <a:latin typeface="Tahoma"/>
            </a:endParaRPr>
          </a:p>
          <a:p>
            <a:pPr marL="267480" indent="-26748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ffcc00"/>
                </a:solidFill>
                <a:latin typeface="Tahoma"/>
              </a:rPr>
              <a:t>L’optimisation énergétique proposée par Dalkia Utilities a permis à Zeneca, sur le seul site d’Huddersfield, d’économiser 2,5 millions de livres par an sur ses dépenses d’énergie, et de réduire les émissions de dioxyde de 40%.</a:t>
            </a:r>
            <a:endParaRPr b="0" lang="en-US" sz="4000" spc="-1" strike="noStrike">
              <a:solidFill>
                <a:srgbClr val="ffffff"/>
              </a:solidFill>
              <a:latin typeface="Tahoma"/>
            </a:endParaRPr>
          </a:p>
          <a:p>
            <a:pPr marL="267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Intensification des efforts de recherche et de développement en faveur de la qualité environnementale, avec le souci de réaliser des transferts de technologie, en particulier à l’internation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Promotion systématique dans les sites industriels et les processus qui y sont mis en œuvre, de dispositifs susceptibles de réduire les consommations et les rejet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755640" y="44280"/>
            <a:ext cx="8199360" cy="4114800"/>
          </a:xfrm>
          <a:prstGeom prst="rect">
            <a:avLst/>
          </a:prstGeom>
          <a:noFill/>
          <a:ln w="0">
            <a:noFill/>
          </a:ln>
        </p:spPr>
        <p:txBody>
          <a:bodyPr lIns="90000" rIns="90000" tIns="46800" bIns="46800" anchor="t">
            <a:normAutofit fontScale="74000"/>
          </a:bodyPr>
          <a:p>
            <a:pPr marL="253800" indent="-25380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Dialogue permanent avec tous les acteurs et partenaires de l’environnement dans un esprit de transparence et de réalisme : clients, élus, pouvoirs publics, associations de consommateurs et de protection de l'environnement, organismes scolaires, communautés scientifiques ainsi que fournisseurs et sous-traitant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755640" y="1978200"/>
            <a:ext cx="8199360" cy="4114800"/>
          </a:xfrm>
          <a:prstGeom prst="rect">
            <a:avLst/>
          </a:prstGeom>
          <a:noFill/>
          <a:ln w="0">
            <a:noFill/>
          </a:ln>
        </p:spPr>
        <p:txBody>
          <a:bodyPr lIns="90000" rIns="90000" tIns="46800" bIns="46800" anchor="t">
            <a:normAutofit/>
          </a:bodyPr>
          <a:p>
            <a:pPr marL="343080" indent="-34308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Mobilisation de tous les moyens de formation tant interne qu’externe pour développer le professionnalisme et la conscience environnementa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755640" y="2193840"/>
            <a:ext cx="8199360" cy="4114800"/>
          </a:xfrm>
          <a:prstGeom prst="rect">
            <a:avLst/>
          </a:prstGeom>
          <a:noFill/>
          <a:ln w="0">
            <a:noFill/>
          </a:ln>
        </p:spPr>
        <p:txBody>
          <a:bodyPr lIns="90000" rIns="90000" tIns="46800" bIns="46800" anchor="t">
            <a:normAutofit/>
          </a:bodyPr>
          <a:p>
            <a:pPr marL="343080" indent="-34308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Communication régulière sur l’état de réalisation du programme pluriannuel et ses résultats.</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755280" y="44280"/>
            <a:ext cx="8388360" cy="4114800"/>
          </a:xfrm>
          <a:prstGeom prst="rect">
            <a:avLst/>
          </a:prstGeom>
          <a:noFill/>
          <a:ln w="0">
            <a:noFill/>
          </a:ln>
        </p:spPr>
        <p:txBody>
          <a:bodyPr lIns="90000" rIns="90000" tIns="46800" bIns="46800" anchor="t">
            <a:normAutofit fontScale="75000"/>
          </a:bodyPr>
          <a:p>
            <a:pPr marL="257040" indent="-25704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Utilisation des nouvelles technologies de l’information et de la communication (NTIC) pour accélérer l’intégration de la politique environnementale au sein des métiers, favoriser les échanges avec les acteurs et partenaires de l’environnement et, plus généralement, bâtir un système moderne de management environnement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ff3399"/>
                </a:solidFill>
                <a:uFillTx/>
                <a:latin typeface="Tahoma"/>
                <a:hlinkClick r:id="rId1"/>
              </a:rPr>
              <a:t>L’ EXEMPLE  DE VIVENDI</a:t>
            </a:r>
            <a:endParaRPr b="0" lang="en-US" sz="4400" spc="-1" strike="noStrike">
              <a:solidFill>
                <a:srgbClr val="ffffcc"/>
              </a:solidFill>
              <a:latin typeface="Tahoma"/>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Elaboration et mise en place d’indicateurs tout à la fois propres à chaque métier et transversaux pour l’ensemble de l’entrepris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44280"/>
            <a:ext cx="9144000" cy="681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p:nvPr/>
        </p:nvSpPr>
        <p:spPr>
          <a:xfrm>
            <a:off x="826920" y="189000"/>
            <a:ext cx="3961080" cy="100836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c"/>
                </a:solidFill>
                <a:latin typeface="Tahoma"/>
              </a:rPr>
              <a:t>DIMINUTION DE L’USAGE DE VOITURES PARTICULIERES</a:t>
            </a:r>
            <a:endParaRPr b="0" lang="en-US" sz="2000" spc="-1" strike="noStrike">
              <a:solidFill>
                <a:srgbClr val="ffffff"/>
              </a:solidFill>
              <a:latin typeface="Arial"/>
            </a:endParaRPr>
          </a:p>
        </p:txBody>
      </p:sp>
      <p:sp>
        <p:nvSpPr>
          <p:cNvPr id="106" name=""/>
          <p:cNvSpPr/>
          <p:nvPr/>
        </p:nvSpPr>
        <p:spPr>
          <a:xfrm>
            <a:off x="6156360" y="115920"/>
            <a:ext cx="2736720" cy="178308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c"/>
                </a:solidFill>
                <a:latin typeface="Tahoma"/>
              </a:rPr>
              <a:t>INSONORISATION</a:t>
            </a:r>
            <a:endParaRPr b="0" lang="en-US" sz="2000" spc="-1" strike="noStrike">
              <a:solidFill>
                <a:srgbClr val="ffffff"/>
              </a:solidFill>
              <a:latin typeface="Arial"/>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c"/>
                </a:solidFill>
                <a:latin typeface="Tahoma"/>
              </a:rPr>
              <a:t>DES</a:t>
            </a:r>
            <a:endParaRPr b="0" lang="en-US" sz="2000" spc="-1" strike="noStrike">
              <a:solidFill>
                <a:srgbClr val="ffffff"/>
              </a:solidFill>
              <a:latin typeface="Arial"/>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c"/>
                </a:solidFill>
                <a:latin typeface="Tahoma"/>
              </a:rPr>
              <a:t>MATERIELS</a:t>
            </a:r>
            <a:endParaRPr b="0" lang="en-US" sz="2000" spc="-1" strike="noStrike">
              <a:solidFill>
                <a:srgbClr val="ffffff"/>
              </a:solidFill>
              <a:latin typeface="Arial"/>
            </a:endParaRPr>
          </a:p>
        </p:txBody>
      </p:sp>
      <p:pic>
        <p:nvPicPr>
          <p:cNvPr id="107" name="" descr=""/>
          <p:cNvPicPr/>
          <p:nvPr/>
        </p:nvPicPr>
        <p:blipFill>
          <a:blip r:embed="rId2"/>
          <a:stretch/>
        </p:blipFill>
        <p:spPr>
          <a:xfrm>
            <a:off x="324000" y="2238480"/>
            <a:ext cx="2495520" cy="238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5075280" y="260280"/>
            <a:ext cx="3960720" cy="146556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c"/>
                </a:solidFill>
                <a:latin typeface="Tahoma"/>
              </a:rPr>
              <a:t>SURVEILLANCE DES RESEAUX, CONTRÔLE DES ODEURS ET DES REJE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34920" y="0"/>
            <a:ext cx="9109080" cy="6858000"/>
          </a:xfrm>
          <a:prstGeom prst="rect">
            <a:avLst/>
          </a:prstGeom>
          <a:ln w="0">
            <a:noFill/>
          </a:ln>
        </p:spPr>
      </p:pic>
      <p:sp>
        <p:nvSpPr>
          <p:cNvPr id="111" name=""/>
          <p:cNvSpPr/>
          <p:nvPr/>
        </p:nvSpPr>
        <p:spPr>
          <a:xfrm>
            <a:off x="108000" y="5756400"/>
            <a:ext cx="3960720" cy="55116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c"/>
                </a:solidFill>
                <a:latin typeface="Tahoma"/>
              </a:rPr>
              <a:t>LUTTE ANTIFUI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
          <p:cNvSpPr/>
          <p:nvPr/>
        </p:nvSpPr>
        <p:spPr>
          <a:xfrm>
            <a:off x="1116000" y="60480"/>
            <a:ext cx="3960720" cy="156492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c"/>
                </a:solidFill>
                <a:latin typeface="Tahoma"/>
              </a:rPr>
              <a:t>CARACTERISATION DES BOUES D’EPANDAGE</a:t>
            </a:r>
            <a:endParaRPr b="0" lang="en-US" sz="2800" spc="-1" strike="noStrike">
              <a:solidFill>
                <a:srgbClr val="ffffff"/>
              </a:solidFill>
              <a:latin typeface="Arial"/>
            </a:endParaRPr>
          </a:p>
        </p:txBody>
      </p:sp>
      <p:sp>
        <p:nvSpPr>
          <p:cNvPr id="114" name=""/>
          <p:cNvSpPr/>
          <p:nvPr/>
        </p:nvSpPr>
        <p:spPr>
          <a:xfrm>
            <a:off x="3132000" y="5516640"/>
            <a:ext cx="3311640" cy="107460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c"/>
                </a:solidFill>
                <a:latin typeface="Tahoma"/>
              </a:rPr>
              <a:t>RECYCLAGE DU PAPI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09:25:09Z</dcterms:created>
  <dc:creator>SALEM</dc:creator>
  <dc:description/>
  <dc:language>en-US</dc:language>
  <cp:lastModifiedBy>SALEM</cp:lastModifiedBy>
  <dcterms:modified xsi:type="dcterms:W3CDTF">2003-02-24T10:16:39Z</dcterms:modified>
  <cp:revision>19</cp:revision>
  <dc:subject/>
  <dc:title>Les systèmes de management de l’hygiène, de la sécurité et de l’environnement (HSE)</dc:title>
</cp:coreProperties>
</file>