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04313" cy="68326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85680" y="3819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85680" y="3819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8360" y="3819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3680" y="1670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1320" y="1670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85680" y="3819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3680" y="3819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1320" y="3819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6672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85680" y="3819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8360" y="3819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5680" y="3819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5560" y="1366920"/>
            <a:ext cx="9080280" cy="4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1378080" indent="-2304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720800" indent="-228600">
              <a:spcBef>
                <a:spcPts val="675"/>
              </a:spcBef>
              <a:buClr>
                <a:srgbClr val="063de8"/>
              </a:buClr>
              <a:buSzPct val="65000"/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063880" indent="-2286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063880" indent="-2286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063880" indent="-2286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66640" y="6499080"/>
            <a:ext cx="8120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©Ian Sommerville 2004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Software Engineering, 7th edition. Chapter 4</a:t>
            </a: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                    Slide  </a:t>
            </a:r>
            <a:fld id="{92D0BA85-4D2A-41F1-BB8B-CD1721BFBFC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133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oftware Processes</a:t>
            </a: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Line 5"/>
          <p:cNvSpPr/>
          <p:nvPr/>
        </p:nvSpPr>
        <p:spPr>
          <a:xfrm>
            <a:off x="0" y="3962520"/>
            <a:ext cx="86868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Evolutionary developmen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990720" y="1752480"/>
            <a:ext cx="7696080" cy="4496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Picture 5" descr="_x0018_4.2 Evolutionary-dev.eps                                       000FF8EC_x000c_Macintosh HD                   B8AA5F2E:"/>
          <p:cNvPicPr/>
          <p:nvPr/>
        </p:nvPicPr>
        <p:blipFill>
          <a:blip r:embed="rId1"/>
          <a:stretch/>
        </p:blipFill>
        <p:spPr>
          <a:xfrm>
            <a:off x="1295280" y="2057400"/>
            <a:ext cx="6934320" cy="37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79440" y="261720"/>
            <a:ext cx="8516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Evolutionary developmen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5760" indent="-45576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14120" indent="-44604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Lack of process visibility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14120" indent="-44604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Systems are often poorly structured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14120" indent="-44604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Special skills (e.g. in languages for rapid prototyping) may be requir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Applicabilit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14120" indent="-44604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For small or medium-size interactive systems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14120" indent="-44604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For parts of large systems (e.g. the user interface)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14120" indent="-44604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For short-lifetime system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Component-base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oftwar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engine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Based on </a:t>
            </a:r>
            <a:r>
              <a:rPr b="0" lang="en-GB" sz="2700" spc="-1" strike="noStrike">
                <a:solidFill>
                  <a:srgbClr val="00ffff"/>
                </a:solidFill>
                <a:latin typeface="Arial"/>
              </a:rPr>
              <a:t>systematic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00ffff"/>
                </a:solidFill>
                <a:latin typeface="Arial"/>
              </a:rPr>
              <a:t>reuse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where </a:t>
            </a:r>
            <a:r>
              <a:rPr b="0" lang="en-GB" sz="2700" spc="-1" strike="noStrike">
                <a:solidFill>
                  <a:srgbClr val="ffff00"/>
                </a:solidFill>
                <a:latin typeface="Arial"/>
              </a:rPr>
              <a:t>systems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are </a:t>
            </a:r>
            <a:r>
              <a:rPr b="0" lang="en-GB" sz="2700" spc="-1" strike="noStrike">
                <a:solidFill>
                  <a:srgbClr val="ffff00"/>
                </a:solidFill>
                <a:latin typeface="Arial"/>
              </a:rPr>
              <a:t>integrated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from </a:t>
            </a:r>
            <a:r>
              <a:rPr b="0" lang="en-GB" sz="2700" spc="-1" strike="noStrike">
                <a:solidFill>
                  <a:srgbClr val="ffff00"/>
                </a:solidFill>
                <a:latin typeface="Arial"/>
              </a:rPr>
              <a:t>existing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ffff00"/>
                </a:solidFill>
                <a:latin typeface="Arial"/>
              </a:rPr>
              <a:t>components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or COTS (Commercial-off-the-shelf) system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ffff"/>
                </a:solidFill>
                <a:latin typeface="Arial"/>
              </a:rPr>
              <a:t>Process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00ffff"/>
                </a:solidFill>
                <a:latin typeface="Arial"/>
              </a:rPr>
              <a:t>stag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Component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analysis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Requirements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modification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System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design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with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reuse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Development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integration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his approach is becoming increasingly used as component standards have emerg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Reuse-oriented developmen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990720" y="2133720"/>
            <a:ext cx="7391160" cy="2743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Picture 6" descr="_x0019_4.3 Component-basedSE.eps                                      000FF8EC_x000c_Macintosh HD                   B8AA5F2E:"/>
          <p:cNvPicPr/>
          <p:nvPr/>
        </p:nvPicPr>
        <p:blipFill>
          <a:blip r:embed="rId1"/>
          <a:stretch/>
        </p:blipFill>
        <p:spPr>
          <a:xfrm>
            <a:off x="1143000" y="2743200"/>
            <a:ext cx="70866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c00000"/>
                </a:solidFill>
                <a:latin typeface="Arial"/>
              </a:rPr>
              <a:t>Process</a:t>
            </a: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800" spc="-1" strike="noStrike">
                <a:solidFill>
                  <a:srgbClr val="c00000"/>
                </a:solidFill>
                <a:latin typeface="Arial"/>
              </a:rPr>
              <a:t>iter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System </a:t>
            </a:r>
            <a:r>
              <a:rPr b="0" lang="en-GB" sz="2700" spc="-1" strike="noStrike">
                <a:solidFill>
                  <a:srgbClr val="ffff00"/>
                </a:solidFill>
                <a:latin typeface="Arial"/>
              </a:rPr>
              <a:t>requirements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ALWAYS </a:t>
            </a:r>
            <a:r>
              <a:rPr b="0" lang="en-GB" sz="2700" spc="-1" strike="noStrike">
                <a:solidFill>
                  <a:srgbClr val="ffff00"/>
                </a:solidFill>
                <a:latin typeface="Arial"/>
              </a:rPr>
              <a:t>evolve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in the course of a project so process iteration where earlier stages are reworked is always part of the process for large system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Iteration can be applied to any of the generic process model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wo (related) approach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ffff"/>
                </a:solidFill>
                <a:latin typeface="Arial"/>
              </a:rPr>
              <a:t>Incremental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delivery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ffff"/>
                </a:solidFill>
                <a:latin typeface="Arial"/>
              </a:rPr>
              <a:t>Spiral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developmen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ffff"/>
                </a:solidFill>
                <a:latin typeface="Arial"/>
              </a:rPr>
              <a:t>Incremental</a:t>
            </a: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800" spc="-1" strike="noStrike">
                <a:solidFill>
                  <a:srgbClr val="00ffff"/>
                </a:solidFill>
                <a:latin typeface="Arial"/>
              </a:rPr>
              <a:t>deliver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Rather than deliver the system as a single delivery, the development and delivery is broken down into increments with each increment delivering part of the required functionality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ser requirements are prioritised and the highest priority requirements are included in early increment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Once the development of an increment is started, the requirements are frozen though requirements for later increments can continue to evolv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Incremental developmen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762120" y="2362320"/>
            <a:ext cx="7848360" cy="289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Picture 6" descr="_x001c_4.4 Incremental-delivery.eps                                   000FF8EC_x000c_Macintosh HD                   B8AA5F2E:"/>
          <p:cNvPicPr/>
          <p:nvPr/>
        </p:nvPicPr>
        <p:blipFill>
          <a:blip r:embed="rId1"/>
          <a:stretch/>
        </p:blipFill>
        <p:spPr>
          <a:xfrm>
            <a:off x="838080" y="2666880"/>
            <a:ext cx="769644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Incremental development advantag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Customer value can be delivered with each increment so system functionality is available earlie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Early increments act as a prototype to help elicit requirements for later increment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Lower risk of overall project failur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he highest priority system services tend to receive the most testing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ffff"/>
                </a:solidFill>
                <a:latin typeface="Arial"/>
              </a:rPr>
              <a:t>Extreme</a:t>
            </a: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800" spc="-1" strike="noStrike">
                <a:solidFill>
                  <a:srgbClr val="00ffff"/>
                </a:solidFill>
                <a:latin typeface="Arial"/>
              </a:rPr>
              <a:t>programm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An approach to development based on the development and delivery of very small increments of functionalit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Relies on constant code improvement, user involvement in the development team and pairwise programming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Covered in Chapter 17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ffff"/>
                </a:solidFill>
                <a:latin typeface="Arial"/>
              </a:rPr>
              <a:t>Spiral</a:t>
            </a: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800" spc="-1" strike="noStrike">
                <a:solidFill>
                  <a:srgbClr val="00ffff"/>
                </a:solidFill>
                <a:latin typeface="Arial"/>
              </a:rPr>
              <a:t>developmen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Process is represented as a spiral rather than as a sequence of activities with backtracking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Each loop in the spiral represents a phase in the process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No fixed phases such as specification or design - loops in the spiral are chosen depending on what is requir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Risks are explicitly assessed and resolved throughout the proces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o introduce software process mode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o describe three generic process models and when they may be us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o describe outline process models for requirements engineering, software development, testing and evolu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o explain the Rational Unified Process mod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o introduce CASE technology to support software process activiti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9440" y="261720"/>
            <a:ext cx="844056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Spiral model of the software proces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533520" y="1600200"/>
            <a:ext cx="8229600" cy="487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5" descr="_x0014_4.5 Spiral-model.eps                                           000FF8EC_x000c_Macintosh HD                   B8AA5F2E:"/>
          <p:cNvPicPr/>
          <p:nvPr/>
        </p:nvPicPr>
        <p:blipFill>
          <a:blip r:embed="rId1"/>
          <a:stretch/>
        </p:blipFill>
        <p:spPr>
          <a:xfrm>
            <a:off x="1066680" y="1676520"/>
            <a:ext cx="6858000" cy="46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Spiral model secto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Objective setting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Specific objectives for the phase are identified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Risk assessment and reduc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Risks are assessed and activities put in place to reduce the key risk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Development and valid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A development model for the system is chosen  which can be any of the generic model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Planning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he project is reviewed and the next phase of the spiral is planned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ocess activiti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oftware specific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oftware design and implement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oftware valid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oftware evolu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Software specific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he process of establishing what services are required and the constraints on the system’s operation and developmen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Requirements engineering proces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Feasibility study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Requirements elicitation and analysis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Requirements specification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Requirements validatio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79440" y="261720"/>
            <a:ext cx="83836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The requirements engineering proces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533520" y="1676520"/>
            <a:ext cx="807696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6" descr="_x0012_4.6 RE-process.eps                                             000FF8EC_x000c_Macintosh HD                   B8AA5F2E:"/>
          <p:cNvPicPr/>
          <p:nvPr/>
        </p:nvPicPr>
        <p:blipFill>
          <a:blip r:embed="rId1"/>
          <a:stretch/>
        </p:blipFill>
        <p:spPr>
          <a:xfrm>
            <a:off x="762120" y="1981080"/>
            <a:ext cx="7619760" cy="39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Software design and implementa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he process of converting the system specification into an executable system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Software desig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Design a software structure that realises the specification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ranslate this structure into an executable program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he activities of design and implementation are closely related and may be inter-leav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Design process activiti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Architectural desig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Abstract specific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Interface desig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Component desig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Data structure desig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Algorithm desig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The software design proces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380880" y="1981080"/>
            <a:ext cx="8534520" cy="4114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7" descr="_x0016_4.7 Design-process.eps                                         000FF8EC_x000c_Macintosh HD                   B8AA5F2E:"/>
          <p:cNvPicPr/>
          <p:nvPr/>
        </p:nvPicPr>
        <p:blipFill>
          <a:blip r:embed="rId1"/>
          <a:stretch/>
        </p:blipFill>
        <p:spPr>
          <a:xfrm>
            <a:off x="533520" y="2362320"/>
            <a:ext cx="830556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Structured method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Systematic approaches to developing a software desig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he design is usually documented as a set of graphical model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Possible mode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Object model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Sequence model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State transition model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Structural model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Data-flow model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Programming and debugg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ranslating a design into a program and removing errors from that program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Programming is a personal activity - there is no generic programming proces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Programmers carry out some program testing to discover faults in the program and remove these faults in the debugging proces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Topics covere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Software process mode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Process iter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Process activiti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he Rational Unified Proces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Computer-aided software engineer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The debugging proces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609480" y="2286000"/>
            <a:ext cx="8001000" cy="2590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6" descr="_x0019_4.8 Debugging-process.eps                                      000FF8EC_x000c_Macintosh HD                   B8AA5F2E:"/>
          <p:cNvPicPr/>
          <p:nvPr/>
        </p:nvPicPr>
        <p:blipFill>
          <a:blip r:embed="rId1"/>
          <a:stretch/>
        </p:blipFill>
        <p:spPr>
          <a:xfrm>
            <a:off x="838080" y="3200400"/>
            <a:ext cx="75438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Software valid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Verification and validation (V &amp; V) is intended to show that a system conforms to its specification and meets the requirements of the system custome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Involves checking and review processes and system testing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System testing involves executing the system with test cases that are derived from the specification of the real data to be processed by the system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The testing proces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09480" y="2286000"/>
            <a:ext cx="7925040" cy="2666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11" descr="_x0016_4.9 TestingProcess.eps                                         000FF8EC_x000c_Macintosh HD                   B8AA5F2E:"/>
          <p:cNvPicPr/>
          <p:nvPr/>
        </p:nvPicPr>
        <p:blipFill>
          <a:blip r:embed="rId1"/>
          <a:stretch/>
        </p:blipFill>
        <p:spPr>
          <a:xfrm>
            <a:off x="1143000" y="2590920"/>
            <a:ext cx="7315200" cy="1717560"/>
          </a:xfrm>
          <a:prstGeom prst="rect">
            <a:avLst/>
          </a:prstGeom>
          <a:ln w="0">
            <a:noFill/>
          </a:ln>
        </p:spPr>
      </p:pic>
      <p:sp>
        <p:nvSpPr>
          <p:cNvPr id="113" name="Line 12"/>
          <p:cNvSpPr/>
          <p:nvPr/>
        </p:nvSpPr>
        <p:spPr>
          <a:xfrm>
            <a:off x="5029200" y="426708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Testing stag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Component or unit test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Individual components are tested independently;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Components may be functions or objects or coherent groupings of these entiti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System test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esting of the system as a whole. Testing of emergent properties is particularly importan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Acceptance test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esting with customer data to check that the system meets the customer’s need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Testing phas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57200" y="2133720"/>
            <a:ext cx="8458200" cy="3886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6" descr="_x0017_4.10 Testing-phases.eps                                        000FF8EC_x000c_Macintosh HD                   B8AA5F2E:"/>
          <p:cNvPicPr/>
          <p:nvPr/>
        </p:nvPicPr>
        <p:blipFill>
          <a:blip r:embed="rId1"/>
          <a:stretch/>
        </p:blipFill>
        <p:spPr>
          <a:xfrm>
            <a:off x="533520" y="2666880"/>
            <a:ext cx="82296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Software evolu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Software is inherently flexible and can change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As requirements change through changing business circumstances, the software that supports the business must also evolve and chang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Although there has been a demarcation between development and evolution (maintenance) this is increasingly irrelevant as fewer and fewer systems are completely new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System evolu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609480" y="2209680"/>
            <a:ext cx="8229600" cy="3505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6" descr="_x0019_4.11 System evolution.eps                                      000FF8EC_x000c_Macintosh HD                   B8AA5F2E:"/>
          <p:cNvPicPr/>
          <p:nvPr/>
        </p:nvPicPr>
        <p:blipFill>
          <a:blip r:embed="rId1"/>
          <a:stretch/>
        </p:blipFill>
        <p:spPr>
          <a:xfrm>
            <a:off x="762120" y="2666880"/>
            <a:ext cx="79246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800" spc="-1" strike="noStrike">
                <a:solidFill>
                  <a:srgbClr val="00ffff"/>
                </a:solidFill>
                <a:latin typeface="Arial"/>
              </a:rPr>
              <a:t>Rationa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ffff"/>
                </a:solidFill>
                <a:latin typeface="Arial"/>
              </a:rPr>
              <a:t>Unified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ffff"/>
                </a:solidFill>
                <a:latin typeface="Arial"/>
              </a:rPr>
              <a:t>Proces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 modern process model derived from the work on the UML and associated proces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ormally described from 3 perspectiv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 dynamic perspective that shows phases over time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 static perspective that shows process activities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 practive perspective that suggests good practic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UP phase mod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609480" y="2438280"/>
            <a:ext cx="8077320" cy="2514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5" descr="_x0013_4.12 RUP phases.eps                                            000FF8EC_x000c_Macintosh HD                   B8AA5F2E:"/>
          <p:cNvPicPr/>
          <p:nvPr/>
        </p:nvPicPr>
        <p:blipFill>
          <a:blip r:embed="rId1"/>
          <a:stretch/>
        </p:blipFill>
        <p:spPr>
          <a:xfrm>
            <a:off x="914400" y="2819520"/>
            <a:ext cx="746748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ffff"/>
                </a:solidFill>
                <a:latin typeface="Arial"/>
              </a:rPr>
              <a:t>RUP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ffff"/>
                </a:solidFill>
                <a:latin typeface="Arial"/>
              </a:rPr>
              <a:t>phas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Incep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Establish the business case for the system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Elabor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evelop an understanding of the problem domain and the system architectur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Construc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ystem design, programming and testing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Transi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eploy the system in its operating environmen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3800" spc="-1" strike="noStrike">
                <a:solidFill>
                  <a:srgbClr val="ff0000"/>
                </a:solidFill>
                <a:latin typeface="Arial"/>
              </a:rPr>
              <a:t>software</a:t>
            </a: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800" spc="-1" strike="noStrike">
                <a:solidFill>
                  <a:srgbClr val="ff0000"/>
                </a:solidFill>
                <a:latin typeface="Arial"/>
              </a:rPr>
              <a:t>proces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A structured set of </a:t>
            </a:r>
            <a:r>
              <a:rPr b="0" lang="en-GB" sz="2300" spc="-1" strike="noStrike">
                <a:solidFill>
                  <a:srgbClr val="00ffff"/>
                </a:solidFill>
                <a:latin typeface="Arial"/>
              </a:rPr>
              <a:t>activities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required to </a:t>
            </a:r>
            <a:r>
              <a:rPr b="0" lang="en-GB" sz="2300" spc="-1" strike="noStrike">
                <a:solidFill>
                  <a:srgbClr val="00ffff"/>
                </a:solidFill>
                <a:latin typeface="Arial"/>
              </a:rPr>
              <a:t>develop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a </a:t>
            </a:r>
            <a:br>
              <a:rPr sz="2300"/>
            </a:br>
            <a:r>
              <a:rPr b="0" lang="en-GB" sz="2300" spc="-1" strike="noStrike">
                <a:solidFill>
                  <a:srgbClr val="00ffff"/>
                </a:solidFill>
                <a:latin typeface="Arial"/>
              </a:rPr>
              <a:t>software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syste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c000"/>
                </a:solidFill>
                <a:latin typeface="Arial"/>
              </a:rPr>
              <a:t>Specification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c000"/>
                </a:solidFill>
                <a:latin typeface="Arial"/>
              </a:rPr>
              <a:t>Design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c000"/>
                </a:solidFill>
                <a:latin typeface="Arial"/>
              </a:rPr>
              <a:t>Validation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c000"/>
                </a:solidFill>
                <a:latin typeface="Arial"/>
              </a:rPr>
              <a:t>Evolution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A software </a:t>
            </a:r>
            <a:r>
              <a:rPr b="0" lang="en-GB" sz="2300" spc="-1" strike="noStrike">
                <a:solidFill>
                  <a:srgbClr val="00ffff"/>
                </a:solidFill>
                <a:latin typeface="Arial"/>
              </a:rPr>
              <a:t>process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ffff"/>
                </a:solidFill>
                <a:latin typeface="Arial"/>
              </a:rPr>
              <a:t>model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is an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abstract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representation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of a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. It presents a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description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of a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from some particular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perspective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UP good practic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velop software iterativel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nage requiremen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se component-based architectur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Visually model softwar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Verify software qualit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trol changes to softwar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atic workflow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914400" y="1523880"/>
            <a:ext cx="7467480" cy="487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Object 7"/>
          <p:cNvGraphicFramePr/>
          <p:nvPr/>
        </p:nvGraphicFramePr>
        <p:xfrm>
          <a:off x="1219320" y="1676520"/>
          <a:ext cx="6172200" cy="478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76520"/>
                    <a:ext cx="6172200" cy="47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ffff"/>
                </a:solidFill>
                <a:latin typeface="Arial"/>
              </a:rPr>
              <a:t>Computer-aided</a:t>
            </a: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400" spc="-1" strike="noStrike">
                <a:solidFill>
                  <a:srgbClr val="00ffff"/>
                </a:solidFill>
                <a:latin typeface="Arial"/>
              </a:rPr>
              <a:t>software</a:t>
            </a: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400" spc="-1" strike="noStrike">
                <a:solidFill>
                  <a:srgbClr val="00ffff"/>
                </a:solidFill>
                <a:latin typeface="Arial"/>
              </a:rPr>
              <a:t>engineering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Computer-aided software engineering (</a:t>
            </a:r>
            <a:r>
              <a:rPr b="0" lang="en-GB" sz="2300" spc="-1" strike="noStrike">
                <a:solidFill>
                  <a:srgbClr val="ff0000"/>
                </a:solidFill>
                <a:latin typeface="Arial"/>
              </a:rPr>
              <a:t>CASE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) is software to support software development and evolution process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Activity autom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Graphical editors for system model development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Data dictionary to manage design entities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Graphical UI builder for user interface construction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Debuggers to support program fault finding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Automated translators to generate new versions of a program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ffff"/>
                </a:solidFill>
                <a:latin typeface="Arial"/>
              </a:rPr>
              <a:t>Case</a:t>
            </a: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800" spc="-1" strike="noStrike">
                <a:solidFill>
                  <a:srgbClr val="00ffff"/>
                </a:solidFill>
                <a:latin typeface="Arial"/>
              </a:rPr>
              <a:t>technolog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Case technology has led to significant improvements in the software process. However, these are not the order of magnitude improvements that were once predict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Software engineering requires creative thought - this is not readily automated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Software engineering is a team activity and, for large projects, much time is spent in team interactions. CASE technology does not really support thes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ffff"/>
                </a:solidFill>
                <a:latin typeface="Arial"/>
              </a:rPr>
              <a:t>CASE</a:t>
            </a: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800" spc="-1" strike="noStrike">
                <a:solidFill>
                  <a:srgbClr val="00ffff"/>
                </a:solidFill>
                <a:latin typeface="Arial"/>
              </a:rPr>
              <a:t>classific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Classification helps us understand the different types of CASE tools and their support for process activiti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Functional perspectiv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ools are classified according to their specific function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Process perspectiv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ools are classified according to process activities that are supported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Integration perspectiv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ools are classified according to their organisation into integrated units.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Functional tool classific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380880" y="1600200"/>
            <a:ext cx="8305920" cy="4800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Object 11"/>
          <p:cNvGraphicFramePr/>
          <p:nvPr/>
        </p:nvGraphicFramePr>
        <p:xfrm>
          <a:off x="685800" y="1752480"/>
          <a:ext cx="7620120" cy="45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2012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ctivity-based tool classific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80880" y="1447920"/>
            <a:ext cx="8001000" cy="4952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5" descr="_x001d_4.15 Activity-based class.eps                                  000FF8EC_x000c_Macintosh HD                   B8AA5F2E:"/>
          <p:cNvPicPr/>
          <p:nvPr/>
        </p:nvPicPr>
        <p:blipFill>
          <a:blip r:embed="rId1"/>
          <a:stretch/>
        </p:blipFill>
        <p:spPr>
          <a:xfrm>
            <a:off x="1828800" y="1752480"/>
            <a:ext cx="495288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ffff"/>
                </a:solidFill>
                <a:latin typeface="Arial"/>
              </a:rPr>
              <a:t>CASE</a:t>
            </a: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800" spc="-1" strike="noStrike">
                <a:solidFill>
                  <a:srgbClr val="00ffff"/>
                </a:solidFill>
                <a:latin typeface="Arial"/>
              </a:rPr>
              <a:t>integr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oo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Support individual process tasks such as design consistency checking, text editing, etc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Workbench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Support a process phase such as specification or design, Normally include a number of integrated tool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Environmen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Support all or a substantial part of an entire software process. Normally include several integrated workbench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79080" y="261720"/>
            <a:ext cx="83646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Tools, workbenches, environme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533520" y="1523880"/>
            <a:ext cx="8229600" cy="487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5" descr="_x0018_4.16 Tools, wbs,envs.eps                                       000FF8EC_x000c_Macintosh HD                   B8AA5F2E:"/>
          <p:cNvPicPr/>
          <p:nvPr/>
        </p:nvPicPr>
        <p:blipFill>
          <a:blip r:embed="rId1"/>
          <a:stretch/>
        </p:blipFill>
        <p:spPr>
          <a:xfrm>
            <a:off x="1219320" y="1676520"/>
            <a:ext cx="6553080" cy="45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5760" indent="-4557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Software processes are the activities involved in producing and evolving a software system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Software process models are abstract representations of these process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General activities are specification, design and implementation, validation and evolutio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Generic process models describe the organisation of software processes. Examples include the waterfall model, evolutionary development and component-based software engineering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Iterative process models describe the software process as a cycle of activiti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9440" y="261720"/>
            <a:ext cx="8516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0000"/>
                </a:solidFill>
                <a:latin typeface="Arial"/>
              </a:rPr>
              <a:t>Generic software process model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300" spc="-1" strike="noStrike">
                <a:solidFill>
                  <a:srgbClr val="00ffff"/>
                </a:solidFill>
                <a:latin typeface="Arial"/>
              </a:rPr>
              <a:t>waterfall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ffff"/>
                </a:solidFill>
                <a:latin typeface="Arial"/>
              </a:rPr>
              <a:t>mod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24560" indent="-4507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Separate and </a:t>
            </a:r>
            <a:r>
              <a:rPr b="0" lang="en-GB" sz="2100" spc="-1" strike="noStrike">
                <a:solidFill>
                  <a:srgbClr val="ffff00"/>
                </a:solidFill>
                <a:latin typeface="Arial"/>
              </a:rPr>
              <a:t>distinct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100" spc="-1" strike="noStrike">
                <a:solidFill>
                  <a:srgbClr val="ffff00"/>
                </a:solidFill>
                <a:latin typeface="Arial"/>
              </a:rPr>
              <a:t>phases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 of specification and development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ffff"/>
                </a:solidFill>
                <a:latin typeface="Arial"/>
              </a:rPr>
              <a:t>Evolutionary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ffff"/>
                </a:solidFill>
                <a:latin typeface="Arial"/>
              </a:rPr>
              <a:t>developmen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24560" indent="-4507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Specification, development and validation are </a:t>
            </a:r>
            <a:r>
              <a:rPr b="0" lang="en-GB" sz="2100" spc="-1" strike="noStrike">
                <a:solidFill>
                  <a:srgbClr val="ffff00"/>
                </a:solidFill>
                <a:latin typeface="Arial"/>
              </a:rPr>
              <a:t>interleaved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ffff"/>
                </a:solidFill>
                <a:latin typeface="Arial"/>
              </a:rPr>
              <a:t>Component-based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ffff"/>
                </a:solidFill>
                <a:latin typeface="Arial"/>
              </a:rPr>
              <a:t>software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ffff"/>
                </a:solidFill>
                <a:latin typeface="Arial"/>
              </a:rPr>
              <a:t>engineering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24560" indent="-4507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he system is </a:t>
            </a:r>
            <a:r>
              <a:rPr b="0" lang="en-GB" sz="2100" spc="-1" strike="noStrike">
                <a:solidFill>
                  <a:srgbClr val="ffff00"/>
                </a:solidFill>
                <a:latin typeface="Arial"/>
              </a:rPr>
              <a:t>assembled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 from </a:t>
            </a:r>
            <a:r>
              <a:rPr b="0" lang="en-GB" sz="2100" spc="-1" strike="noStrike">
                <a:solidFill>
                  <a:srgbClr val="ffff00"/>
                </a:solidFill>
                <a:latin typeface="Arial"/>
              </a:rPr>
              <a:t>existing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100" spc="-1" strike="noStrike">
                <a:solidFill>
                  <a:srgbClr val="ffff00"/>
                </a:solidFill>
                <a:latin typeface="Arial"/>
              </a:rPr>
              <a:t>components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here are many variants of these models e.g. formal development where a waterfall-like process is used but the specification is a formal specification that is refined through several stages to an implementable desig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Requirements engineering is the process of developing a software specificatio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Design and implementation processes transform the specification to an executable program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Validation involves checking that the system meets to its specification and user need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Evolution is concerned with modifying the system after it is in us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he Rational Unified Process is a generic process model that separates activities from phas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CASE technology supports software process activiti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Waterfall mod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752480" y="1752480"/>
            <a:ext cx="6934320" cy="441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Picture 5" descr="_x0016_4.1. SW-life-cycle.eps                                         000FF8EC_x000c_Macintosh HD                   B8AA5F2E:"/>
          <p:cNvPicPr/>
          <p:nvPr/>
        </p:nvPicPr>
        <p:blipFill>
          <a:blip r:embed="rId1"/>
          <a:stretch/>
        </p:blipFill>
        <p:spPr>
          <a:xfrm>
            <a:off x="2057400" y="1933560"/>
            <a:ext cx="6400800" cy="39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Waterfall model phas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Requirements analysis and defini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System and software desig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Implementation and unit test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Integration and system test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Operation and maintenan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he main drawback of the waterfall model is the difficulty of accommodating change after the process is underway. One phase has to be complete before moving onto the next phas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Waterfall model problem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Inflexible partitioning of the project into distinct stages makes it difficult to respond to changing customer requirement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herefore, this model is only appropriate when the requirements are well-understood and changes will be fairly limited during the design process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Few business systems have stable requirement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he waterfall model is mostly used for large systems engineering projects where a system is developed at several sites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Evolutionary developmen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ffff"/>
                </a:solidFill>
                <a:latin typeface="Arial"/>
              </a:rPr>
              <a:t>Exploratory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00ffff"/>
                </a:solidFill>
                <a:latin typeface="Arial"/>
              </a:rPr>
              <a:t>development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Objective is to work with customers and to evolve a final system from an initial outline specification. Should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start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with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well-understood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requirements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add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new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features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as proposed by the customer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ffff"/>
                </a:solidFill>
                <a:latin typeface="Arial"/>
              </a:rPr>
              <a:t>Throw-away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00ffff"/>
                </a:solidFill>
                <a:latin typeface="Arial"/>
              </a:rPr>
              <a:t>prototyp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Objective is to understand the system requirements. Should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start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with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poorly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understood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requirements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clarify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what is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really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needed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8T08:06:41Z</dcterms:created>
  <dc:creator>Ian Sommerville</dc:creator>
  <dc:description/>
  <cp:keywords/>
  <dc:language>en-US</dc:language>
  <cp:lastModifiedBy>Sammak</cp:lastModifiedBy>
  <cp:lastPrinted>2004-04-23T15:45:57Z</cp:lastPrinted>
  <dcterms:modified xsi:type="dcterms:W3CDTF">2012-02-09T22:41:23Z</dcterms:modified>
  <cp:revision>27</cp:revision>
  <dc:subject/>
  <dc:title>Software Processes </dc:title>
</cp:coreProperties>
</file>