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4BD-64CE-4AB3-9060-4AC1A64C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57E-8E0D-4ECF-89D4-FB41F76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11C-105B-4DC2-85D0-40E81B7F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CE4-5402-43E5-AB17-63A646EE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19B-7A38-4BB9-928A-D67F32EA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73E-5475-402F-A61D-D1DF5FE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BF3-6EBA-4B8F-AD6E-5C4F7CBE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E2E-411C-4606-B1FD-B03E8F4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C2D-2370-41CB-8685-6C096A8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C92-0F2E-4083-A324-3C0490A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C09-9848-461B-A11E-83F0061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F32-3DAA-4273-A43C-91FF30ED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76A-637A-4D42-A40B-33D0A53D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80" y="576360"/>
            <a:ext cx="6797880" cy="824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280" y="826920"/>
            <a:ext cx="3141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16680" y="7308720"/>
            <a:ext cx="1699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0280" y="32400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y Body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2280" y="2124000"/>
            <a:ext cx="4535280" cy="594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0640" y="2268360"/>
            <a:ext cx="201636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1720" y="2268360"/>
            <a:ext cx="201600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349236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4640" y="349236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93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575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2280" y="6012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3000" y="601200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16280" y="725184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80" y="576360"/>
            <a:ext cx="6797880" cy="824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280" y="826920"/>
            <a:ext cx="3141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16680" y="7308720"/>
            <a:ext cx="1699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360" y="250920"/>
            <a:ext cx="3429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u Corpo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2280" y="2124000"/>
            <a:ext cx="4535280" cy="594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20640" y="2268360"/>
            <a:ext cx="201636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1720" y="2268360"/>
            <a:ext cx="2016000" cy="7210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25360" y="349236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4640" y="349236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93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57560" y="4788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2280" y="601200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13000" y="6012000"/>
            <a:ext cx="201636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6280" y="7251840"/>
            <a:ext cx="2016000" cy="7207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2280" y="234000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be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5920" y="358776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ra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56400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m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0640" y="488484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13000" y="485928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5000" y="610092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84640" y="610092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esco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9000" y="7380360"/>
            <a:ext cx="18734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otov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13000" y="2340000"/>
            <a:ext cx="18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e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5:54:10Z</dcterms:created>
  <dc:creator>iies-consultor590</dc:creator>
  <dc:description/>
  <dc:language>en-US</dc:language>
  <cp:lastModifiedBy>iies-consultor590</cp:lastModifiedBy>
  <dcterms:modified xsi:type="dcterms:W3CDTF">2007-07-17T16:21:13Z</dcterms:modified>
  <cp:revision>2</cp:revision>
  <dc:subject/>
  <dc:title>Diapositivo 1</dc:title>
</cp:coreProperties>
</file>