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EB1-E9D8-4770-A6B9-31231D29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F88-0673-4901-9621-15A1FEC1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55B-8110-4CD7-8219-CF66C975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FCD-196D-4A3C-A7FF-D4C61A79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49A-7DD7-4F9E-9F7A-411B4F12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1D0-28C0-4F8C-8188-8BCE7560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DD8-7C30-4AFF-BE60-B76B5EF8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7CB-A50F-4CD8-81D3-2AA4A711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169-0CFC-4887-8317-FFD7E22B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33F-1A88-4881-B717-E7D2C7B7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BEE-9D85-400D-8127-10288DEA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894-FAA0-4A22-BE67-23C28A1B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2D51-4DDF-45CA-95DB-E59335C5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280" y="576360"/>
            <a:ext cx="6797880" cy="8243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1280" y="826920"/>
            <a:ext cx="3141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16680" y="7308720"/>
            <a:ext cx="16999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0280" y="324000"/>
            <a:ext cx="31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y Body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2280" y="2124000"/>
            <a:ext cx="4535280" cy="594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20640" y="2268360"/>
            <a:ext cx="2016360" cy="72108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41720" y="2268360"/>
            <a:ext cx="2016000" cy="72108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25360" y="3492360"/>
            <a:ext cx="201636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84640" y="349236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9360" y="478800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57560" y="478800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2280" y="601200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13000" y="6012000"/>
            <a:ext cx="201636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16280" y="725184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80" y="576360"/>
            <a:ext cx="6797880" cy="824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1280" y="826920"/>
            <a:ext cx="3141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16680" y="7308720"/>
            <a:ext cx="16999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360" y="250920"/>
            <a:ext cx="3429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eu Corpo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2280" y="2124000"/>
            <a:ext cx="4535280" cy="594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20640" y="2268360"/>
            <a:ext cx="2016360" cy="72108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41720" y="2268360"/>
            <a:ext cx="2016000" cy="72108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25360" y="3492360"/>
            <a:ext cx="201636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4640" y="349236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9360" y="478800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57560" y="478800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2280" y="601200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13000" y="6012000"/>
            <a:ext cx="201636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16280" y="725184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2280" y="2340000"/>
            <a:ext cx="187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abe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5920" y="3587760"/>
            <a:ext cx="187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Braç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564000"/>
            <a:ext cx="187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m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0640" y="4884840"/>
            <a:ext cx="187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13000" y="4859280"/>
            <a:ext cx="187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5000" y="6100920"/>
            <a:ext cx="187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84640" y="6100920"/>
            <a:ext cx="187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escoç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9000" y="7380360"/>
            <a:ext cx="18734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Cotov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13000" y="2340000"/>
            <a:ext cx="187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e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5:54:10Z</dcterms:created>
  <dc:creator>iies-consultor590</dc:creator>
  <dc:description/>
  <dc:language>en-US</dc:language>
  <cp:lastModifiedBy>iies-consultor590</cp:lastModifiedBy>
  <dcterms:modified xsi:type="dcterms:W3CDTF">2007-07-17T16:21:13Z</dcterms:modified>
  <cp:revision>2</cp:revision>
  <dc:subject/>
  <dc:title>Diapositivo 1</dc:title>
</cp:coreProperties>
</file>