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1D32-DE9F-4932-BD5E-3D64316F6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D95B-A9A3-4D93-B461-891B62E0D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C56-D890-4272-94F9-285FDF0A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154-9BA7-4F4D-B8C3-55EF39CF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E89-5679-4739-8DB5-2D9FB7F6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553-D9C4-4966-92AD-B1C35059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533F4-06A7-48C6-8371-017D15EC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27556-94B5-4173-B32D-CE85A124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E4825-6375-4F3B-8CAF-8CB1429E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D0BD4-D158-4241-85B9-36CE38C7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55BE8-3938-44A2-9081-03D98D8F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64500-12F5-4649-8553-4C67338E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78030-1A7D-4968-896C-43AE29AD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7DE-9043-4EC4-B6CE-8734D219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F12BB-FDD9-4D48-A1B5-8768FFA4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CB813-F046-4D9D-8539-108FB762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51B41-A6EC-463F-B81C-30745EAE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F2B4E-0473-44E7-9C7E-7464BB59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C40A9-091C-461C-95C9-7786AFBA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0D04E-C2D3-4BF5-9EC2-B2EADD25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1EAD8-009B-45AD-903D-25E0F27B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1A93-6AD5-421D-873B-133A6D51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F2F63-EB76-4B48-B3FD-531FCAE6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4DFB-CAEF-4FEA-A47B-5015B1D9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A01-B414-4FF7-9FFF-83F8F63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63AE-1613-422D-8458-BA7B1404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2583-BF03-4492-8E13-CE8833F8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F3893-45B5-4B4B-9B7B-14628705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063C-62DE-46BA-BF67-BC6FDA74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CDB9-451A-4C2D-A37A-8D5895D6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D2FE-4110-4224-9E2F-B64FE526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D40E-9A1C-44F2-8D62-C3C4AEF5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99D18-ACA6-4CC9-BC43-812DAA43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02ECB-85AD-4B31-96B8-0E4CEBD3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E6DCFE-7C0B-441E-BEC7-4301FAE8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65E-32B6-4DC5-A292-F91A4F10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0322A-B458-4EB7-AFCC-1F614BF2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14D3E-FC26-4825-AEB7-5D6C4577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B587B-FB58-4786-8E9F-D88ACDF2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A0CE6-4D96-44EE-B239-5BE8C47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A3FF8-B46E-4D9A-8244-3B6FA4CD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05788-00B8-41EE-A78D-4036B06D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F057D-C0EB-4415-825E-0DFB6BBB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008B7-D136-423C-8097-3789590A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F8405-5ABE-4F06-BEDC-B6390063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614EC-FD80-4A87-B6CA-069FE180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135-F4B8-44D2-BAC0-ABDE755F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B1359-E7F2-4E33-9CBA-13642F2C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F37B2-897B-4D3D-BD3F-3FF477C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08906-E76B-4218-ADA7-13B6EFBC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7048D9-A851-4C51-9908-A199D073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E02A4-4DC1-45D8-B5A1-BE2EE27D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31A9B-41F1-43D8-BE0D-6BE4CD3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6B3C2-758C-485C-B17B-243319A9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DD5D6-64FA-4ED3-8D27-BA80CCB3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63019-D550-47CB-94B1-E3E24B13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5910C-0A3C-4117-9694-96FBC15C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813-A6AA-4E2A-A3EB-14FC6EE4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B4042-72ED-45EF-81BB-A11CDF74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3FF4C-F53B-4332-8F9A-508BA1A8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61580-F775-4DF6-88D9-EB8E4265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E5C7F-3014-4992-89D7-A80216EC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D9C82-B6FF-47EA-BB39-B85D7C5D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2C55C-5D9D-44AF-99CE-7AFCAF9B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A880D-F59A-4B98-8CB0-95F2CA33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46684-59BA-4E1E-8A1F-313B2B8A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7235A-EDD3-4435-B4C1-A70EB35F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96E38-9A5D-42B2-8C59-26B7D277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B89-F25C-4E04-84DB-38B82FDB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3DDE53-8C37-4EF4-9444-03510878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2E372-4F72-4888-9CAE-5AAD7B7A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0C3F0-53E9-466F-96CB-7362EC7A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8D55-3C6E-40DB-AD25-6ECF44E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704-15AE-4F23-AAAE-007AB4C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678E-C31A-4789-AA67-5803B3666E1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62C4-D74D-4952-B62C-EC2C5862CB0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553F-EAD4-4789-9C4C-A4AD5358A9B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533E-5A6E-4158-92D2-C05141A32477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31E2-12D8-46B9-86E4-8A8D8B14A68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5DC8-9B1B-4420-A255-433BEA12F2D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8680" y="762120"/>
            <a:ext cx="5931000" cy="26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575f6d"/>
                </a:solidFill>
                <a:latin typeface="Century Schoolbook"/>
              </a:rPr>
              <a:t>PROJETO </a:t>
            </a:r>
            <a:br>
              <a:rPr sz="5400"/>
            </a:br>
            <a:r>
              <a:rPr b="1" lang="pt-BR" sz="5400" spc="-1" strike="noStrike">
                <a:solidFill>
                  <a:srgbClr val="575f6d"/>
                </a:solidFill>
                <a:latin typeface="Century Schoolbook"/>
              </a:rPr>
              <a:t>LAR </a:t>
            </a:r>
            <a:br>
              <a:rPr sz="5400"/>
            </a:br>
            <a:r>
              <a:rPr b="1" lang="pt-BR" sz="5400" spc="-1" strike="noStrike">
                <a:solidFill>
                  <a:srgbClr val="575f6d"/>
                </a:solidFill>
                <a:latin typeface="Century Schoolbook"/>
              </a:rPr>
              <a:t>PAULO DE TARSO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130720" y="4952880"/>
            <a:ext cx="3301920" cy="9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Simulação de Projet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575f6d"/>
                </a:solidFill>
                <a:latin typeface="Century Schoolbook"/>
              </a:rPr>
              <a:t>Prof. João Arant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Espaço Reservado para Número de Slide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F2E8-1CA1-436C-BFC4-CDB373CCEA4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575f6d"/>
                </a:solidFill>
                <a:latin typeface="Century Schoolbook"/>
              </a:rPr>
              <a:t>Cotação da confecção das rifas</a:t>
            </a:r>
            <a:endParaRPr b="0" lang="en-US" sz="33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9800" y="952560"/>
          <a:ext cx="8140680" cy="5433840"/>
        </p:xfrm>
        <a:graphic>
          <a:graphicData uri="http://schemas.openxmlformats.org/drawingml/2006/table">
            <a:tbl>
              <a:tblPr/>
              <a:tblGrid>
                <a:gridCol w="2108160"/>
                <a:gridCol w="1600200"/>
                <a:gridCol w="1663560"/>
                <a:gridCol w="1174680"/>
                <a:gridCol w="1594080"/>
              </a:tblGrid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er 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udinei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ag Dig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er Grap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de B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x 100 v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x 50 v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x 50 v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p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 75 g/m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 75 g/m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lfite 90 g/m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man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6 x 20,5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x 20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x 20 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to e B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to e B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to e Br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erado e serrilh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ab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ile e Blocag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ile e Blocag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ile e Blocag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azo de entre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d úte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d úte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d úte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dições de pag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 no pedido + 50% na entre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combi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d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sto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26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$ 15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6870600" y="888840"/>
            <a:ext cx="1981440" cy="5537520"/>
          </a:xfrm>
          <a:custGeom>
            <a:avLst/>
            <a:gdLst>
              <a:gd name="textAreaLeft" fmla="*/ 96480 w 1981440"/>
              <a:gd name="textAreaRight" fmla="*/ 1884960 w 1981440"/>
              <a:gd name="textAreaTop" fmla="*/ 96480 h 5537520"/>
              <a:gd name="textAreaBottom" fmla="*/ 5441040 h 5537520"/>
            </a:gdLst>
            <a:ahLst/>
            <a:rect l="textAreaLeft" t="textAreaTop" r="textAreaRight" b="textAreaBottom"/>
            <a:pathLst>
              <a:path w="21600" h="60358">
                <a:moveTo>
                  <a:pt x="3600" y="0"/>
                </a:moveTo>
                <a:arcTo wR="3600" hR="3600" stAng="16200000" swAng="-5400000"/>
                <a:lnTo>
                  <a:pt x="0" y="56758"/>
                </a:lnTo>
                <a:arcTo wR="3600" hR="3600" stAng="10800000" swAng="-5400000"/>
                <a:lnTo>
                  <a:pt x="18000" y="603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c3e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7823160" y="6540480"/>
            <a:ext cx="749520" cy="317520"/>
          </a:xfrm>
          <a:prstGeom prst="rightArrow">
            <a:avLst>
              <a:gd name="adj1" fmla="val 50000"/>
              <a:gd name="adj2" fmla="val 5901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ROJETO LAR PAULO DE TAR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71680" y="1752120"/>
            <a:ext cx="85723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entury Schoolbook"/>
              </a:rPr>
              <a:t>Equipe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Elisa Sant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Erica Borg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Fabia Tokuyam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Fulvio Farah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Mário Mantovan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Vanderleia Lerm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49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entury Schoolbook"/>
              </a:rPr>
              <a:t>Vanessa Ivonic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897F-1261-4EDC-95FD-29C1B889E24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AVANÇO SEMANAL DO PROJETO 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(SEMANA 4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03040" y="1790640"/>
            <a:ext cx="86234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Foi atualizado o Blog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Foi feita uma segunda visita ao Lar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Visita aos fornecedores dos bebedou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aptação de Recurso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Iniciar execução da atividade venda de rif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Elaborada carta de apresentação aos fornecedores com reconhecimento da Vanzolini  para auxiliar na arrecadação da verb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arta do Lar Paulo de Ta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6C44-FBFF-475C-8CD1-CDAB894F4E2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47608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700" spc="-1" strike="noStrike">
                <a:solidFill>
                  <a:srgbClr val="575f6d"/>
                </a:solidFill>
                <a:latin typeface="Century Schoolbook"/>
              </a:rPr>
              <a:t>OBRIGADO  </a:t>
            </a:r>
            <a:endParaRPr b="0" lang="en-US" sz="6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Espaço Reservado para Número de Slide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E285-1E58-4680-9105-C1770CB9B42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" name="Picture 3" descr="blue_gradient"/>
          <p:cNvPicPr/>
          <p:nvPr/>
        </p:nvPicPr>
        <p:blipFill>
          <a:blip r:embed="rId1"/>
          <a:stretch/>
        </p:blipFill>
        <p:spPr>
          <a:xfrm>
            <a:off x="3782880" y="3622680"/>
            <a:ext cx="5361120" cy="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3800" y="185760"/>
            <a:ext cx="7467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Visita ao Lar Paulo de Tar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292640" y="319392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457200" y="942840"/>
            <a:ext cx="4127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228600" y="342252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444920" y="45072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960" y="33120"/>
            <a:ext cx="746748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átio 2 – Bebedouro meno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5960" y="33120"/>
            <a:ext cx="746748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átio 1 – Bebedouro maio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533840" y="72396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873920" y="6375240"/>
            <a:ext cx="749520" cy="317520"/>
          </a:xfrm>
          <a:prstGeom prst="rightArrow">
            <a:avLst>
              <a:gd name="adj1" fmla="val 50000"/>
              <a:gd name="adj2" fmla="val 5901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Confecção das Rifas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4" name="Espaço Reservado para Conteúdo 2"/>
          <p:cNvSpPr/>
          <p:nvPr/>
        </p:nvSpPr>
        <p:spPr>
          <a:xfrm>
            <a:off x="291960" y="1066680"/>
            <a:ext cx="73663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efinição do Produto a ser Rifado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efinição do custo da Rifa – R$ 10,0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Cotação da confecção das rif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Rifas entreg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entury Schoolbook"/>
              </a:rPr>
              <a:t>Data do sorteio – 27/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7835760" y="6006960"/>
            <a:ext cx="330480" cy="508320"/>
          </a:xfrm>
          <a:prstGeom prst="upArrow">
            <a:avLst>
              <a:gd name="adj1" fmla="val 50000"/>
              <a:gd name="adj2" fmla="val 38453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575f6d"/>
                </a:solidFill>
                <a:latin typeface="Century Schoolbook"/>
              </a:rPr>
              <a:t>Produto a ser rifado - G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0720" y="1073160"/>
            <a:ext cx="4070520" cy="3060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464080" y="865080"/>
            <a:ext cx="2381400" cy="3171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93600" y="438768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5133960" y="4235400"/>
            <a:ext cx="2381400" cy="1790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873920" y="6375240"/>
            <a:ext cx="749520" cy="317520"/>
          </a:xfrm>
          <a:prstGeom prst="rightArrow">
            <a:avLst>
              <a:gd name="adj1" fmla="val 50000"/>
              <a:gd name="adj2" fmla="val 5901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20:51:20Z</dcterms:created>
  <dc:creator>bldspala</dc:creator>
  <dc:description/>
  <dc:language>en-US</dc:language>
  <cp:lastModifiedBy>Unibanco</cp:lastModifiedBy>
  <cp:lastPrinted>2006-03-22T00:57:17Z</cp:lastPrinted>
  <dcterms:modified xsi:type="dcterms:W3CDTF">2009-06-23T12:23:36Z</dcterms:modified>
  <cp:revision>628</cp:revision>
  <dc:subject/>
  <dc:title>Your name here</dc:title>
</cp:coreProperties>
</file>