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F830-A7BE-4D4E-B033-61D35BBED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F7CA-2E6E-4F5D-9948-0B660CD2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BCB-3FBD-44E8-89E0-09CCC4F4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203-5AE1-4E3F-B4F7-28874392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E06-47DF-45A4-8EBD-4D456D53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331-F6FF-4329-B122-1EFE2F34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0B4A0-7567-488A-9A65-AB773131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A83EC-4985-422E-86E7-322A1988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C7AA1-043B-4D6F-BF1A-90AF5895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7F278-DCC3-4AB1-9233-2245A967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B726C-AA50-4252-B23B-E41CA744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9A2D3-C8A0-4056-ADA8-3B1BA97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856AE-79E0-41C7-BED8-BEDB80C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732-841E-4894-B21F-20B663F4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C960F-1A71-4747-A432-E6CBF771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9A6A1-B2F8-45B5-A107-F1DC15B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346B3-83F5-495E-9717-1CDE7030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9D9ED-EBE4-4244-9538-29A2D629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11B2F-A703-490B-AB1B-9E369399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93F2-A705-4462-8082-018EC246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CE52-8D8D-4B89-B66F-9F288731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209C-8378-4424-AAD0-1221E9FC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3455-5E66-4C18-A756-F32BB280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6570-2CAA-4C13-B0CD-EFDB526F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9D8-52E9-49BD-98DE-2B3910DC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B0BF-A0FC-42B6-B58C-12E84041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8901-EE94-4C90-A945-5801EAF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21BB-871A-4735-B951-B93DA31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BB1C-76A1-4CF8-B6BE-4BF0E76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FD30-2082-4E79-8544-388BF9E6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916B-EC45-44A6-B2E3-1611E8BE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BC12-87B3-4C64-86BA-216593CF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91152-1E81-4DD8-9D2D-00D8EAEE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4B6ED-286A-46FD-BC0B-2D2112C6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56888-066E-4B40-8339-341EEC98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EA4-E4B8-4089-A50D-5E82FECE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6AB4E-1183-4CC6-9B26-8B911573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52650-E7FC-4513-A24D-3AEE340D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F6D13-35B5-4468-B3B7-B6C58677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78F76-4621-411F-BB12-491E41FE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A7A84-4E8A-467A-8FAE-0F1ABA88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9EB20-E7DE-4300-9B61-D6EC929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A3C74-B7CA-4E6A-90C0-6C1F8D43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73F8D-8E85-4598-99A6-AFB0BF0C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B5D9F-D2F5-4DD8-9EB5-67D7EC10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09ADE-D4A6-4993-9BF7-FE560E32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51A-6958-4200-A213-D5DDC682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0EF3F-CEF9-4E28-8CDE-693C97CC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1062C-7F61-434E-B176-82A9A9D7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D7C61-2B5F-4C3E-B30F-00EFA489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37C53-6081-4039-8CE9-2A905450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A89B0-89A4-4F16-9BCF-A27B5F9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026D4-E101-4C97-97E3-4979F9DD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1CD1E-492E-4AED-9D13-C6571DA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88E9A-0928-4CE4-8614-1B4CFF43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D856D-3920-4837-908F-D0710C81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5BF6E-5830-4975-AB64-811DD53A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FF2-C6AF-4485-8186-C02CDA01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13FA5-1CA4-41D4-BF7E-DBD725E2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43730-707C-481E-848B-67494403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47131-B94F-4CE8-A0D2-A368267C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B866C-3659-4EDA-8214-368768DC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3C3F9-C7F4-489C-8692-22B13894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EB4CC-C493-42B2-970F-E1423C0E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F39D7-B3AE-42B7-8F49-57F57E2F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F6C2E-720E-4BDA-979D-13FA7466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E9DEC-CD55-46CF-BC9B-914915F2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9E4D1-54A6-4EDE-A38B-7CD196BC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67E-EBAC-4F25-B19B-2E7C5085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40971-19AF-40EB-A725-9A28F06F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2ADE5-C48F-4C14-BCC7-701B4868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BB17F-C1C5-4101-9B86-A070A531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B76-924D-4B31-99DF-7979869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C7C-85BE-4E68-8653-670924F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4B33-8AD4-4230-97B1-7485A13912B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447D-4E9F-48C0-9646-D5240A8A96B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B0DD-7C54-4E6A-8308-E3B632B3EFA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389E-5D71-4BF5-BAEE-69EA95B016C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ED5D-B84C-4C7B-823B-3D52255D5A3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9B05-EA37-4B31-B6E3-BEB578410AB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8680" y="762120"/>
            <a:ext cx="5931000" cy="26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575f6d"/>
                </a:solidFill>
                <a:latin typeface="Century Schoolbook"/>
              </a:rPr>
              <a:t>PROJETO </a:t>
            </a:r>
            <a:br>
              <a:rPr sz="5400"/>
            </a:br>
            <a:r>
              <a:rPr b="1" lang="pt-BR" sz="5400" spc="-1" strike="noStrike">
                <a:solidFill>
                  <a:srgbClr val="575f6d"/>
                </a:solidFill>
                <a:latin typeface="Century Schoolbook"/>
              </a:rPr>
              <a:t>LAR </a:t>
            </a:r>
            <a:br>
              <a:rPr sz="5400"/>
            </a:br>
            <a:r>
              <a:rPr b="1" lang="pt-BR" sz="5400" spc="-1" strike="noStrike">
                <a:solidFill>
                  <a:srgbClr val="575f6d"/>
                </a:solidFill>
                <a:latin typeface="Century Schoolbook"/>
              </a:rPr>
              <a:t>PAULO DE TARSO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130720" y="4952880"/>
            <a:ext cx="3301920" cy="9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Simulação de Projet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Prof. João Arant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Espaço Reservado para Número de Slide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6227-38C3-4A59-85DA-4C7E47AAE69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575f6d"/>
                </a:solidFill>
                <a:latin typeface="Century Schoolbook"/>
              </a:rPr>
              <a:t>Cotação da confecção das rifas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9800" y="952560"/>
          <a:ext cx="8140680" cy="5433840"/>
        </p:xfrm>
        <a:graphic>
          <a:graphicData uri="http://schemas.openxmlformats.org/drawingml/2006/table">
            <a:tbl>
              <a:tblPr/>
              <a:tblGrid>
                <a:gridCol w="2108160"/>
                <a:gridCol w="1600200"/>
                <a:gridCol w="1663560"/>
                <a:gridCol w="1174680"/>
                <a:gridCol w="159408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er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udinei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ag Dig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er Gra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de B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x 100 v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x 50 v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x 50 v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 75 g/m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 75 g/m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 90 g/m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an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 x 20,5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x 20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x 20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to e B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to e B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to e B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erado e serrilh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ab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ile e Blocag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ile e Blocag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ile e Blocag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azo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d úte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d úte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d úte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dições de pag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 no pedido + 50% na entre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ombi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d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sto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6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6870600" y="888840"/>
            <a:ext cx="1981440" cy="553752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5537520"/>
              <a:gd name="textAreaBottom" fmla="*/ 5441040 h 5537520"/>
            </a:gdLst>
            <a:ahLst/>
            <a:rect l="textAreaLeft" t="textAreaTop" r="textAreaRight" b="textAreaBottom"/>
            <a:pathLst>
              <a:path w="21600" h="60358">
                <a:moveTo>
                  <a:pt x="3600" y="0"/>
                </a:moveTo>
                <a:arcTo wR="3600" hR="3600" stAng="16200000" swAng="-5400000"/>
                <a:lnTo>
                  <a:pt x="0" y="56758"/>
                </a:lnTo>
                <a:arcTo wR="3600" hR="3600" stAng="10800000" swAng="-5400000"/>
                <a:lnTo>
                  <a:pt x="18000" y="60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c3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7823160" y="6540480"/>
            <a:ext cx="749520" cy="317520"/>
          </a:xfrm>
          <a:prstGeom prst="rightArrow">
            <a:avLst>
              <a:gd name="adj1" fmla="val 50000"/>
              <a:gd name="adj2" fmla="val 5901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ROJETO LAR PAULO DE TA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71680" y="1752120"/>
            <a:ext cx="85723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entury Schoolbook"/>
              </a:rPr>
              <a:t>Equipe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Elisa Sant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Erica Borg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Fabia Tokuyam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Fulvio Fara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Mário Mantovan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Vanderleia Lerm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Vanessa Ivonic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5D1B-6AE0-40B3-9939-F66F55551AB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AVANÇO SEMANAL DO PROJETO 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(SEMANA 4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03040" y="1790640"/>
            <a:ext cx="86234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Foi atualizado o Blog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Foi feita uma segunda visita ao Lar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Visita aos fornecedores dos bebedou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aptação de Recurs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Iniciar execução da atividade venda de rif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laborada carta de apresentação aos fornecedores com reconhecimento da Vanzolini  para auxiliar na arrecadação da verb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arta do Lar Paulo de Ta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F707-21CD-49C2-9BB5-C9C5F34F973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47608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700" spc="-1" strike="noStrike">
                <a:solidFill>
                  <a:srgbClr val="575f6d"/>
                </a:solidFill>
                <a:latin typeface="Century Schoolbook"/>
              </a:rPr>
              <a:t>OBRIGADO  </a:t>
            </a:r>
            <a:endParaRPr b="0" lang="en-US" sz="6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Espaço Reservado para Número de Slide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D1EE-B22C-4D12-8B69-46A341D6BD9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3" descr="blue_gradient"/>
          <p:cNvPicPr/>
          <p:nvPr/>
        </p:nvPicPr>
        <p:blipFill>
          <a:blip r:embed="rId1"/>
          <a:stretch/>
        </p:blipFill>
        <p:spPr>
          <a:xfrm>
            <a:off x="3782880" y="3622680"/>
            <a:ext cx="5361120" cy="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3800" y="185760"/>
            <a:ext cx="7467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Visita ao Lar Paulo de Ta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92640" y="319392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57200" y="942840"/>
            <a:ext cx="4127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28600" y="342252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444920" y="45072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960" y="33120"/>
            <a:ext cx="746748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átio 2 – Bebedouro meno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960" y="33120"/>
            <a:ext cx="746748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átio 1 – Bebedouro maio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533840" y="72396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873920" y="6375240"/>
            <a:ext cx="749520" cy="317520"/>
          </a:xfrm>
          <a:prstGeom prst="rightArrow">
            <a:avLst>
              <a:gd name="adj1" fmla="val 50000"/>
              <a:gd name="adj2" fmla="val 5901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Confecção das Rifas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4" name="Espaço Reservado para Conteúdo 2"/>
          <p:cNvSpPr/>
          <p:nvPr/>
        </p:nvSpPr>
        <p:spPr>
          <a:xfrm>
            <a:off x="291960" y="1066680"/>
            <a:ext cx="73663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efinição do Produto a ser Rifad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efinição do custo da Rifa – R$ 10,0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otação da confecção das rif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Rifas entreg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ata do sorteio – 27/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7835760" y="6006960"/>
            <a:ext cx="330480" cy="508320"/>
          </a:xfrm>
          <a:prstGeom prst="upArrow">
            <a:avLst>
              <a:gd name="adj1" fmla="val 50000"/>
              <a:gd name="adj2" fmla="val 38453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roduto a ser rifado - G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0720" y="1073160"/>
            <a:ext cx="4070520" cy="3060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464080" y="865080"/>
            <a:ext cx="2381400" cy="3171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93600" y="438768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5133960" y="4235400"/>
            <a:ext cx="2381400" cy="1790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873920" y="6375240"/>
            <a:ext cx="749520" cy="317520"/>
          </a:xfrm>
          <a:prstGeom prst="rightArrow">
            <a:avLst>
              <a:gd name="adj1" fmla="val 50000"/>
              <a:gd name="adj2" fmla="val 5901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20:51:20Z</dcterms:created>
  <dc:creator>bldspala</dc:creator>
  <dc:description/>
  <dc:language>en-US</dc:language>
  <cp:lastModifiedBy>Unibanco</cp:lastModifiedBy>
  <cp:lastPrinted>2006-03-22T00:57:17Z</cp:lastPrinted>
  <dcterms:modified xsi:type="dcterms:W3CDTF">2009-06-23T12:23:36Z</dcterms:modified>
  <cp:revision>628</cp:revision>
  <dc:subject/>
  <dc:title>Your name here</dc:title>
</cp:coreProperties>
</file>