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4.gif" ContentType="image/gif"/>
  <Override PartName="/ppt/media/image13.png" ContentType="image/png"/>
  <Override PartName="/ppt/media/image6.jpeg" ContentType="image/jpeg"/>
  <Override PartName="/ppt/media/image8.png" ContentType="image/png"/>
  <Override PartName="/ppt/media/image2.png" ContentType="image/png"/>
  <Override PartName="/ppt/media/Enfant~3%20Layer-3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A0A-3E79-4BD2-B206-911D3936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324-65D5-46C9-8079-78F6F256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316-15E0-4570-A78E-D98A15F6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0F5-8E82-4613-BD90-A088F5B5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72D-9C83-486F-9C9B-7D15D5FB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F15-E859-4630-ADF8-130E3CF8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B01-CCBF-4E28-B80D-A4DA894A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775-E43D-4BD7-9474-B3960055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2066-DA02-455D-B220-5F93C813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7AA1-6864-4545-936A-C7C1674A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CF6-5CC1-4203-9463-C1531269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54E-E4EE-42BD-ADD8-3C1DC927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93B4-1FD7-43A5-A813-EDC88DBCC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Enfant~3%20Layer-3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914400"/>
            <a:ext cx="70102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NNE FÊ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S AMIS POUR T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Ê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allons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3276720" cy="2924280"/>
          </a:xfrm>
          <a:prstGeom prst="rect">
            <a:avLst/>
          </a:prstGeom>
          <a:ln w="0">
            <a:noFill/>
          </a:ln>
        </p:spPr>
      </p:pic>
      <p:pic>
        <p:nvPicPr>
          <p:cNvPr id="43" name="drumcln" descr=""/>
          <p:cNvPicPr/>
          <p:nvPr/>
        </p:nvPicPr>
        <p:blipFill>
          <a:blip r:embed="rId3"/>
          <a:stretch/>
        </p:blipFill>
        <p:spPr>
          <a:xfrm>
            <a:off x="1371600" y="3048120"/>
            <a:ext cx="3124080" cy="3562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  <p:sndAc>
      <p:stSnd>
        <p:snd r:embed="rId4" name="Enfant~3%20Layer-3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085582590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088719888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89484155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ans%20tit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Bonne%20Fête%20%20gateau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14600" y="457200"/>
            <a:ext cx="3909960" cy="5334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8153280" y="762120"/>
            <a:ext cx="68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gig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4480" y="2133720"/>
            <a:ext cx="2819520" cy="3800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762120"/>
            <a:ext cx="3352680" cy="541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619280" y="5084640"/>
            <a:ext cx="7086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u gâteau pour tout mon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 advTm="8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20:05:09Z</dcterms:created>
  <dc:creator>Gisele Audet</dc:creator>
  <dc:description/>
  <dc:language>en-US</dc:language>
  <cp:lastModifiedBy>Smets</cp:lastModifiedBy>
  <dcterms:modified xsi:type="dcterms:W3CDTF">2008-10-31T08:28:13Z</dcterms:modified>
  <cp:revision>14</cp:revision>
  <dc:subject/>
  <dc:title>Aucun titre de diapositive</dc:title>
</cp:coreProperties>
</file>