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gif" ContentType="image/gif"/>
  <Override PartName="/ppt/media/image13.png" ContentType="image/png"/>
  <Override PartName="/ppt/media/image6.jpeg" ContentType="image/jpeg"/>
  <Override PartName="/ppt/media/image8.png" ContentType="image/png"/>
  <Override PartName="/ppt/media/image2.png" ContentType="image/png"/>
  <Override PartName="/ppt/media/Enfant~3%20Layer-3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47E-E477-4DC9-99C7-D841DFB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ACB-CCA3-4328-8E9C-84942FE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7E2-58B9-4D06-BA1A-8A5F0371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B9D-6E0F-41D6-B699-2AA804EF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57A-8B1C-4914-B327-1FD7EC5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587-AED5-46FC-A465-5AF219D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722-F3E4-4D9F-BAD5-0F4FE22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546-6751-4DDE-BC21-1268BEA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35B-7D0E-4D16-B8AB-E9D06EB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346-12A4-4334-B22E-BF4421E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DD3-72E8-4F4E-84A7-6974FAA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8B3-0D89-47AE-85D7-7BB8594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F802-8C8C-4AAB-8C4E-748F10F6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Enfant~3%20Layer-3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7010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NE F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 AMIS POUR 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allons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43" name="drumcln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312408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  <p:sndAc>
      <p:stSnd>
        <p:snd r:embed="rId4" name="Enfant~3%20Layer-3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085582590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88719888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89484155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ans%20tit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onne%20Fête%20%20gateau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3909960" cy="5334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153280" y="76212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gig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4480" y="2133720"/>
            <a:ext cx="28195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762120"/>
            <a:ext cx="335268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19280" y="508464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 gâteau pour tout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20:05:09Z</dcterms:created>
  <dc:creator>Gisele Audet</dc:creator>
  <dc:description/>
  <dc:language>en-US</dc:language>
  <cp:lastModifiedBy>Smets</cp:lastModifiedBy>
  <dcterms:modified xsi:type="dcterms:W3CDTF">2008-10-31T08:28:13Z</dcterms:modified>
  <cp:revision>14</cp:revision>
  <dc:subject/>
  <dc:title>Aucun titre de diapositive</dc:title>
</cp:coreProperties>
</file>