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Aldila%20violon.wav" ContentType="audio/x-wav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24D00-7733-4192-BBE4-7ABF44D6F3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358-BE84-44A0-A721-61F14E6F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3B5-AC41-4441-A48C-6A43683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D2B-B008-45A8-BD0A-5CF43217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480-E7B3-481A-9A58-8999972E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AC0-DD47-447B-86DB-44CB53BD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955-025E-4B6D-9418-CD06AC7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80E-6FF8-4DDB-BF9C-2BCD653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58C-6D8E-4BCB-B406-DF7B891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800-D9E7-42E5-B2E0-28F60769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553-E3A7-4FF5-B8D7-0113A71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5C7-655A-4240-B026-C94A78D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7FB-8EB7-4A56-BAC7-621803F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4DDB6-9ADD-44E7-9051-B2E876BB41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Aldila%20violon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5080" y="57340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J'ai vécu un jour des merveill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Vous et moi souvenez-vous-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6360" y="223920"/>
            <a:ext cx="51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onotype Corsiva"/>
              </a:rPr>
              <a:t>Nos hivers d’autrefois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0000" y="1371600"/>
            <a:ext cx="4000320" cy="38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41400" y="1800360"/>
            <a:ext cx="4000680" cy="3848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  <p:sndAc>
      <p:stSnd>
        <p:snd r:embed="rId4" name="Aldila%20viol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21240" y="447660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Aimez les gens </a:t>
            </a:r>
            <a:r>
              <a:rPr b="1" lang="en-GB" sz="2400" spc="-1" strike="noStrike">
                <a:solidFill>
                  <a:srgbClr val="ffffff"/>
                </a:solidFill>
                <a:latin typeface="Monotype Corsiva"/>
              </a:rPr>
              <a:t>non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 pas 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arce qu'ils le mériten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ou qu'ils en ont be</a:t>
            </a:r>
            <a:r>
              <a:rPr b="1" lang="en-GB" sz="2400" spc="-1" strike="noStrike">
                <a:solidFill>
                  <a:srgbClr val="ffffff"/>
                </a:solidFill>
                <a:latin typeface="Monotype Corsiva"/>
              </a:rPr>
              <a:t>soin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, mais simplemen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arce qu'ils existen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1011240"/>
            <a:ext cx="4319640" cy="5288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040360" y="900000"/>
            <a:ext cx="4000320" cy="558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9720" y="537372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'amitié, c'est gérer les affinités,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'amour, c'est concilier les différence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0360" y="-2538360"/>
            <a:ext cx="9144000" cy="6858000"/>
            <a:chOff x="360360" y="-2538360"/>
            <a:chExt cx="9144000" cy="6858000"/>
          </a:xfrm>
        </p:grpSpPr>
        <p:grpSp>
          <p:nvGrpSpPr>
            <p:cNvPr id="152" name=""/>
            <p:cNvGrpSpPr/>
            <p:nvPr/>
          </p:nvGrpSpPr>
          <p:grpSpPr>
            <a:xfrm>
              <a:off x="360360" y="1692360"/>
              <a:ext cx="9144000" cy="2627280"/>
              <a:chOff x="360360" y="1692360"/>
              <a:chExt cx="9144000" cy="26272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548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169236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360360" y="-2538360"/>
              <a:ext cx="9144000" cy="2627280"/>
              <a:chOff x="360360" y="-2538360"/>
              <a:chExt cx="9144000" cy="2627280"/>
            </a:xfrm>
          </p:grpSpPr>
          <p:pic>
            <p:nvPicPr>
              <p:cNvPr id="1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6036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548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480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64000" y="-253836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080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" name=""/>
            <p:cNvGrpSpPr/>
            <p:nvPr/>
          </p:nvGrpSpPr>
          <p:grpSpPr>
            <a:xfrm>
              <a:off x="360360" y="-838080"/>
              <a:ext cx="9144000" cy="2627280"/>
              <a:chOff x="360360" y="-838080"/>
              <a:chExt cx="9144000" cy="26272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036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548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480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64000" y="-8380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080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0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4240" y="5445000"/>
            <a:ext cx="52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 bonheur est toujours à la portée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de celui qui sait le goût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18960" y="115416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98960" y="539640"/>
            <a:ext cx="4000680" cy="468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7160" y="501336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N'attendez pas d'être aimé pour aimé!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vie est le plus beau miracle du mond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900000"/>
            <a:ext cx="4000680" cy="478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40360" y="179280"/>
            <a:ext cx="4000320" cy="550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72200" y="530064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Vous êtes un être humain unique, il y a un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raison à votre existenc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38600" y="360360"/>
            <a:ext cx="4000680" cy="5219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551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 vrai bonheur est dans le calme de l'esprit et du cœu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4000680" cy="59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59280" y="107964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544500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e fait d'avoir quelqu'un à aimer stimul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vie entièr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18960" y="0"/>
            <a:ext cx="4540320" cy="576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040360" y="179280"/>
            <a:ext cx="4000320" cy="612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977560" y="54450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Les adultes manquent souvent de temps.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Ils courent après le temps.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Ils courent tout l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819680" y="360360"/>
            <a:ext cx="4000320" cy="558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79280" y="1260360"/>
            <a:ext cx="4278600" cy="4532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8640" y="5330880"/>
            <a:ext cx="73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Tout voyage, même s'il est de mille kilomètres,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commence par le premier pa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51928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140360" y="900000"/>
            <a:ext cx="467964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0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572640" y="54936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Vivre est la chose la plus rare du mond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la plupart des gens ne font qu'exist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2480" y="2924280"/>
            <a:ext cx="82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'est là que nous vivions,  dans ces temps charma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01080" y="6219720"/>
            <a:ext cx="638280" cy="46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40360" cy="3886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80000" y="0"/>
            <a:ext cx="4360680" cy="3886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-41400" y="2971800"/>
            <a:ext cx="454212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40360" y="2971800"/>
            <a:ext cx="410364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6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82320" y="573408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rends le temps d'aimer..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C'est le secret de l'éternelle jeun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3680" y="179280"/>
            <a:ext cx="4000320" cy="666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179280"/>
            <a:ext cx="5580000" cy="558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01280" y="5013360"/>
            <a:ext cx="77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s enfants ont tout leur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cueillent le temps à mesure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jouent, ils mangent, ils dorment... selon le temp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4000320" cy="666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79280"/>
            <a:ext cx="4000680" cy="6480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704160" y="429264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ne calculent pas leur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a plupart du temps,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n'ont pas de montre pour mesurer le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prennent le temps comme il est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Ni plus, ni moi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384720" y="1079640"/>
            <a:ext cx="5760720" cy="50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4000680" cy="6300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34560" y="5373720"/>
            <a:ext cx="68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Et pour ce qui est de l'avenir, il ne s'agit pa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de le prévoir, mais de le rendre possibl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40360" y="112680"/>
            <a:ext cx="4000320" cy="654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39680" y="179280"/>
            <a:ext cx="5240520" cy="648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1440" y="5300640"/>
            <a:ext cx="85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Si nous sommes incapables de trouver la tranquillité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en nous-mêmes, il ne sert à rien de la chercher ailleur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8" name=""/>
            <p:cNvGrpSpPr/>
            <p:nvPr/>
          </p:nvGrpSpPr>
          <p:grpSpPr>
            <a:xfrm>
              <a:off x="0" y="4230720"/>
              <a:ext cx="9144000" cy="2627280"/>
              <a:chOff x="0" y="4230720"/>
              <a:chExt cx="9144000" cy="2627280"/>
            </a:xfrm>
          </p:grpSpPr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44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423072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4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9144000" cy="2627280"/>
              <a:chOff x="0" y="0"/>
              <a:chExt cx="9144000" cy="2627280"/>
            </a:xfrm>
          </p:grpSpPr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44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98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03640" y="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4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"/>
            <p:cNvGrpSpPr/>
            <p:nvPr/>
          </p:nvGrpSpPr>
          <p:grpSpPr>
            <a:xfrm>
              <a:off x="0" y="1700280"/>
              <a:ext cx="9144000" cy="2627280"/>
              <a:chOff x="0" y="1700280"/>
              <a:chExt cx="9144000" cy="2627280"/>
            </a:xfrm>
          </p:grpSpPr>
          <p:pic>
            <p:nvPicPr>
              <p:cNvPr id="10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944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8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3640" y="17002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4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2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91040" y="5373720"/>
            <a:ext cx="65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plupart des gens sont heureux dans la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mesure où ils ont décidé de l'êtr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98960" y="291960"/>
            <a:ext cx="4000680" cy="618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-179280"/>
            <a:ext cx="4000680" cy="666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22760" y="5229360"/>
            <a:ext cx="56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 n'y a qu'un seul bonheur dans la vie: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Aimer et être aim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7" name=""/>
            <p:cNvGrpSpPr/>
            <p:nvPr/>
          </p:nvGrpSpPr>
          <p:grpSpPr>
            <a:xfrm>
              <a:off x="0" y="4230720"/>
              <a:ext cx="9144000" cy="2627280"/>
              <a:chOff x="0" y="4230720"/>
              <a:chExt cx="9144000" cy="26272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44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423072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4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0" y="0"/>
              <a:ext cx="9144000" cy="2627280"/>
              <a:chOff x="0" y="0"/>
              <a:chExt cx="9144000" cy="262728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44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98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03640" y="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4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" name=""/>
            <p:cNvGrpSpPr/>
            <p:nvPr/>
          </p:nvGrpSpPr>
          <p:grpSpPr>
            <a:xfrm>
              <a:off x="0" y="1700280"/>
              <a:ext cx="9144000" cy="2627280"/>
              <a:chOff x="0" y="1700280"/>
              <a:chExt cx="9144000" cy="26272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944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8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3640" y="17002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4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0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08360" y="5373720"/>
            <a:ext cx="485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e vrai bonheur est d'une nature discrète..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On le trouve en soi-mêm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666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19640" y="457200"/>
            <a:ext cx="4680000" cy="5662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10-02-22T05:52:29Z</dcterms:modified>
  <cp:revision>1</cp:revision>
  <dc:subject/>
  <dc:title>Hivers d' autrefois</dc:title>
</cp:coreProperties>
</file>