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25.gif" ContentType="image/gif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2.gif" ContentType="image/gif"/>
  <Override PartName="/ppt/media/image3.jpeg" ContentType="image/jpeg"/>
  <Override PartName="/ppt/media/Aldila%20violon.wav" ContentType="audio/x-wav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D7068-44FD-45E4-A746-AD0412D862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645-D25E-4F78-BA77-1040200E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6ED-EB18-4F63-B958-586B9C87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D3D-F061-4C52-BD48-0DD29F43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C94-5842-4879-A91C-3F700387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E5E-F691-41A7-B72B-52883576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2B7-D45D-4EF0-A36D-9002CF1D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8C7-F26C-4344-8815-5ED5F2E1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787-F067-4B13-AA05-6A3FC394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820-4D83-4C3F-97BE-B997E8BE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F08-C2E6-4388-A32C-290DEC69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60E-421A-4B7E-B11D-DA38B056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972-B8A4-41A5-A65B-7D4EF9DE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C9483-EA49-4ECE-822B-A4A93768AF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Aldila%20violon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5080" y="573408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J'ai vécu un jour des merveille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Vous et moi souvenez-vous-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16360" y="223920"/>
            <a:ext cx="51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Monotype Corsiva"/>
              </a:rPr>
              <a:t>Nos hivers d’autrefois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0000" y="1371600"/>
            <a:ext cx="4000320" cy="3848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-41400" y="1800360"/>
            <a:ext cx="4000680" cy="3848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  <p:sndAc>
      <p:stSnd>
        <p:snd r:embed="rId4" name="Aldila%20viol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421240" y="447660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Aimez les gens </a:t>
            </a:r>
            <a:r>
              <a:rPr b="1" lang="en-GB" sz="2400" spc="-1" strike="noStrike">
                <a:solidFill>
                  <a:srgbClr val="ffffff"/>
                </a:solidFill>
                <a:latin typeface="Monotype Corsiva"/>
              </a:rPr>
              <a:t>non</a:t>
            </a: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 pas </a:t>
            </a: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parce qu'ils le méritent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ou qu'ils en ont be</a:t>
            </a:r>
            <a:r>
              <a:rPr b="1" lang="en-GB" sz="2400" spc="-1" strike="noStrike">
                <a:solidFill>
                  <a:srgbClr val="ffffff"/>
                </a:solidFill>
                <a:latin typeface="Monotype Corsiva"/>
              </a:rPr>
              <a:t>soin</a:t>
            </a: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, mais simplement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parce qu'ils existent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1011240"/>
            <a:ext cx="4319640" cy="5288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040360" y="900000"/>
            <a:ext cx="4000320" cy="5580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0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49720" y="537372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'amitié, c'est gérer les affinités,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'amour, c'est concilier les différences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0360" y="-2538360"/>
            <a:ext cx="9144000" cy="6858000"/>
            <a:chOff x="360360" y="-2538360"/>
            <a:chExt cx="9144000" cy="6858000"/>
          </a:xfrm>
        </p:grpSpPr>
        <p:grpSp>
          <p:nvGrpSpPr>
            <p:cNvPr id="152" name=""/>
            <p:cNvGrpSpPr/>
            <p:nvPr/>
          </p:nvGrpSpPr>
          <p:grpSpPr>
            <a:xfrm>
              <a:off x="360360" y="1692360"/>
              <a:ext cx="9144000" cy="2627280"/>
              <a:chOff x="360360" y="1692360"/>
              <a:chExt cx="9144000" cy="2627280"/>
            </a:xfrm>
          </p:grpSpPr>
          <p:pic>
            <p:nvPicPr>
              <p:cNvPr id="1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360" y="1692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54800" y="1692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48000" y="1692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64000" y="169236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8000" y="1692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"/>
            <p:cNvGrpSpPr/>
            <p:nvPr/>
          </p:nvGrpSpPr>
          <p:grpSpPr>
            <a:xfrm>
              <a:off x="360360" y="-2538360"/>
              <a:ext cx="9144000" cy="2627280"/>
              <a:chOff x="360360" y="-2538360"/>
              <a:chExt cx="9144000" cy="2627280"/>
            </a:xfrm>
          </p:grpSpPr>
          <p:pic>
            <p:nvPicPr>
              <p:cNvPr id="15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60360" y="-2538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54800" y="-2538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348000" y="-2538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64000" y="-253836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08000" y="-253836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4" name=""/>
            <p:cNvGrpSpPr/>
            <p:nvPr/>
          </p:nvGrpSpPr>
          <p:grpSpPr>
            <a:xfrm>
              <a:off x="360360" y="-838080"/>
              <a:ext cx="9144000" cy="2627280"/>
              <a:chOff x="360360" y="-838080"/>
              <a:chExt cx="9144000" cy="262728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0360" y="-8380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354800" y="-8380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48000" y="-8380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364000" y="-83808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908000" y="-8380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 advTm="10000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0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4240" y="5445000"/>
            <a:ext cx="524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Le bonheur est toujours à la portée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de celui qui sait le goût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18960" y="1154160"/>
            <a:ext cx="4000680" cy="3886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4000680" cy="3886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998960" y="539640"/>
            <a:ext cx="4000680" cy="468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17160" y="5013360"/>
            <a:ext cx="64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N'attendez pas d'être aimé pour aimé!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a vie est le plus beau miracle du mond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900000"/>
            <a:ext cx="4000680" cy="4786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040360" y="179280"/>
            <a:ext cx="4000320" cy="550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72200" y="530064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Vous êtes un être humain unique, il y a un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raison à votre existenc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00680" cy="3886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638600" y="360360"/>
            <a:ext cx="4000680" cy="5219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0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5516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Le vrai bonheur est dans le calme de l'esprit et du cœu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4000680" cy="59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859280" y="1079640"/>
            <a:ext cx="4000680" cy="4786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0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8000" y="544500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e fait d'avoir quelqu'un à aimer stimul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a vie entièr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18960" y="0"/>
            <a:ext cx="4540320" cy="5761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040360" y="179280"/>
            <a:ext cx="4000320" cy="612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0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977560" y="54450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Monotype Corsiva"/>
              </a:rPr>
              <a:t>Les adultes manquent souvent de temps.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Monotype Corsiva"/>
              </a:rPr>
              <a:t>Ils courent après le temps.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Monotype Corsiva"/>
              </a:rPr>
              <a:t>Ils courent tout le 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819680" y="360360"/>
            <a:ext cx="4000320" cy="5580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79280" y="1260360"/>
            <a:ext cx="4278600" cy="45324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0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08640" y="5330880"/>
            <a:ext cx="73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Tout voyage, même s'il est de mille kilomètres,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commence par le premier pas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2519280"/>
            <a:ext cx="4000680" cy="3886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140360" y="900000"/>
            <a:ext cx="4679640" cy="504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0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572640" y="549360"/>
            <a:ext cx="63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Vivre est la chose la plus rare du mond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la plupart des gens ne font qu'exist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2480" y="2924280"/>
            <a:ext cx="82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'est là que nous vivions,  dans ces temps charman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101080" y="6219720"/>
            <a:ext cx="638280" cy="460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F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140360" cy="3886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680000" y="0"/>
            <a:ext cx="4360680" cy="3886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-41400" y="2971800"/>
            <a:ext cx="4542120" cy="3886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5040360" y="2971800"/>
            <a:ext cx="4103640" cy="3886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6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5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82320" y="573408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Prends le temps d'aimer..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C'est le secret de l'éternelle jeun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43680" y="179280"/>
            <a:ext cx="4000320" cy="666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179280"/>
            <a:ext cx="5580000" cy="558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701280" y="5013360"/>
            <a:ext cx="77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Les enfants ont tout leur temps.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s cueillent le temps à mesure.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s jouent, ils mangent, ils dorment... selon le temp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0000" y="0"/>
            <a:ext cx="4000320" cy="666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179280"/>
            <a:ext cx="4000680" cy="6480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704160" y="4292640"/>
            <a:ext cx="692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s ne calculent pas leur temps.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La plupart du temps,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s n'ont pas de montre pour mesurer le temps.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s prennent le temps comme il est.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Ni plus, ni moi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384720" y="1079640"/>
            <a:ext cx="5760720" cy="50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4000680" cy="6300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34560" y="5373720"/>
            <a:ext cx="68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Et pour ce qui est de l'avenir, il ne s'agit pa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de le prévoir, mais de le rendre possibl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40360" y="112680"/>
            <a:ext cx="4000320" cy="6548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39680" y="179280"/>
            <a:ext cx="5240520" cy="648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081440" y="5300640"/>
            <a:ext cx="85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Si nous sommes incapables de trouver la tranquillité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en nous-mêmes, il ne sert à rien de la chercher ailleurs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8" name=""/>
            <p:cNvGrpSpPr/>
            <p:nvPr/>
          </p:nvGrpSpPr>
          <p:grpSpPr>
            <a:xfrm>
              <a:off x="0" y="4230720"/>
              <a:ext cx="9144000" cy="2627280"/>
              <a:chOff x="0" y="4230720"/>
              <a:chExt cx="9144000" cy="2627280"/>
            </a:xfrm>
          </p:grpSpPr>
          <p:pic>
            <p:nvPicPr>
              <p:cNvPr id="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44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3640" y="423072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5476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9144000" cy="2627280"/>
              <a:chOff x="0" y="0"/>
              <a:chExt cx="9144000" cy="2627280"/>
            </a:xfrm>
          </p:grpSpPr>
          <p:pic>
            <p:nvPicPr>
              <p:cNvPr id="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944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9876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03640" y="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5476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" name=""/>
            <p:cNvGrpSpPr/>
            <p:nvPr/>
          </p:nvGrpSpPr>
          <p:grpSpPr>
            <a:xfrm>
              <a:off x="0" y="1700280"/>
              <a:ext cx="9144000" cy="2627280"/>
              <a:chOff x="0" y="1700280"/>
              <a:chExt cx="9144000" cy="2627280"/>
            </a:xfrm>
          </p:grpSpPr>
          <p:pic>
            <p:nvPicPr>
              <p:cNvPr id="10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944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876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03640" y="170028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476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 advTm="12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91040" y="5373720"/>
            <a:ext cx="65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a plupart des gens sont heureux dans la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mesure où ils ont décidé de l'êtr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998960" y="291960"/>
            <a:ext cx="4000680" cy="6188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-179280"/>
            <a:ext cx="4000680" cy="6661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722760" y="5229360"/>
            <a:ext cx="569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Il n'y a qu'un seul bonheur dans la vie: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Aimer et être aim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7" name=""/>
            <p:cNvGrpSpPr/>
            <p:nvPr/>
          </p:nvGrpSpPr>
          <p:grpSpPr>
            <a:xfrm>
              <a:off x="0" y="4230720"/>
              <a:ext cx="9144000" cy="2627280"/>
              <a:chOff x="0" y="4230720"/>
              <a:chExt cx="9144000" cy="2627280"/>
            </a:xfrm>
          </p:grpSpPr>
          <p:pic>
            <p:nvPicPr>
              <p:cNvPr id="1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44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3640" y="423072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547640" y="423072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" name=""/>
            <p:cNvGrpSpPr/>
            <p:nvPr/>
          </p:nvGrpSpPr>
          <p:grpSpPr>
            <a:xfrm>
              <a:off x="0" y="0"/>
              <a:ext cx="9144000" cy="2627280"/>
              <a:chOff x="0" y="0"/>
              <a:chExt cx="9144000" cy="2627280"/>
            </a:xfrm>
          </p:grpSpPr>
          <p:pic>
            <p:nvPicPr>
              <p:cNvPr id="1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944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9876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03640" y="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547640" y="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" name=""/>
            <p:cNvGrpSpPr/>
            <p:nvPr/>
          </p:nvGrpSpPr>
          <p:grpSpPr>
            <a:xfrm>
              <a:off x="0" y="1700280"/>
              <a:ext cx="9144000" cy="2627280"/>
              <a:chOff x="0" y="1700280"/>
              <a:chExt cx="9144000" cy="262728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944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876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03640" y="1700280"/>
                <a:ext cx="2151360" cy="26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47640" y="1700280"/>
                <a:ext cx="2149560" cy="2627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 advTm="10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8696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708360" y="5373720"/>
            <a:ext cx="485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Le vrai bonheur est d'une nature discrète..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On le trouve en soi-mêm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00680" cy="666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319640" y="457200"/>
            <a:ext cx="4680000" cy="5662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0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ets</cp:lastModifiedBy>
  <dcterms:modified xsi:type="dcterms:W3CDTF">2010-02-22T05:52:29Z</dcterms:modified>
  <cp:revision>1</cp:revision>
  <dc:subject/>
  <dc:title>Hivers d' autrefois</dc:title>
</cp:coreProperties>
</file>