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8.jpeg" ContentType="image/jpeg"/>
  <Override PartName="/ppt/media/image10.jpeg" ContentType="image/jpeg"/>
  <Override PartName="/ppt/media/image35.jpeg" ContentType="image/jpeg"/>
  <Override PartName="/ppt/media/image12.jpeg" ContentType="image/jpeg"/>
  <Override PartName="/ppt/media/RR.wav" ContentType="audio/x-wav"/>
  <Override PartName="/ppt/media/image29.jpeg" ContentType="image/jpeg"/>
  <Override PartName="/ppt/media/image37.gif" ContentType="image/gif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.gif" ContentType="image/gif"/>
  <Override PartName="/ppt/media/image33.jpeg" ContentType="image/jpeg"/>
  <Override PartName="/ppt/media/image6.jpeg" ContentType="image/jpeg"/>
  <Override PartName="/ppt/media/image27.jpeg" ContentType="image/jpeg"/>
  <Override PartName="/ppt/media/image5.gif" ContentType="image/gif"/>
  <Override PartName="/ppt/media/image14.jpeg" ContentType="image/jpeg"/>
  <Override PartName="/ppt/media/image1.png" ContentType="image/png"/>
  <Override PartName="/ppt/media/image13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AE20-EE1B-4615-BF67-EC23420FA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EDC8-84F5-4662-BE37-6A3F110E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AB6FE-100E-471F-8B0C-2E115252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C34B6-7215-4887-860A-3F420200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9CF6B-B7B0-4A43-AE96-928584E5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0E0D0-B5F6-4633-BFB2-E7CB1F86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194B8-4227-474C-B0AB-F6723B27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B966C-7A29-45F2-8083-3F0AF73D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56114-BA6C-4931-9D00-926B9982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F2C86-5D5F-4BCA-B7FA-F101ECC3D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CA01D-7A65-4DB7-9446-39797140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50139-01D7-474D-9273-4AEADD2B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B7E9-4DBA-4D3C-BBFA-622713C0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58B2F-027E-4EA1-8502-3DDCEA71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5BB9A-FC0E-4A98-A541-0AA3FE6D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2600B-22AD-4E69-8530-B6EC1412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14BC9-35FE-4A86-8DB4-F5A3D145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B6B06B-4058-49CA-8CB3-AF9E49DD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1278AE-C51F-41E9-882A-E3EE8706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BC08E-33D8-46C8-8A71-D0087289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B6F29-CE7C-4098-A7D0-CC57B7ED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9F493-6BD1-4F15-B000-AAB64D4B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07B50-D87B-4C34-980F-004325602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DCD9-24BC-4C49-9C9E-DD3360B53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62220-49D2-41B1-B941-C72D58CF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161CC-4148-4C7B-A7A6-250F814B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27F23-308D-4A8D-990C-E4DEAAA5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08DA1-C2F5-4483-A94E-1A96FC21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AE7E9-0227-42AD-B43D-6A4B971A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11076-2002-41A5-A350-805A9915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F6253-79BF-4096-98F5-763291A3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3B4B7-5853-4CA1-9F26-17E05D26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FFAAE-EE85-4EF9-B97A-126C44CC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C54B1-89EB-48BD-A107-BFB54FD4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3519-8172-4DA9-9141-C15ED7C9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41577-61FD-44D7-ACF6-02BDFC0B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5E5BB-8CE7-41E7-B57A-CAB542ED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948B5-20F8-406A-84E9-9553A85C1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BC33-D999-4A45-BE2B-585176DA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07A8-6FEB-4EB0-81D0-C7F2E76D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1455-F138-478F-BB1F-6101B877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2842-09F9-4AFD-87D0-7343D3C6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AF98-38AF-4CDC-A599-0746AD3E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9372-6CD4-4AB7-984E-65169C6D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1C43-B007-412D-8F86-637615CD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EF9E-BD48-4DA9-B7B9-F5EAD522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FE0B-A7E8-4BD5-B15D-6084F6D1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188E-6C3B-4138-ADC4-0BA07E09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1A76-AD32-4F54-BDBF-6CC96B621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2132-D1AD-49B5-8BA8-00E0C7DDF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9E126-5867-4A38-9CAE-AFBD73ECC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F302E-1045-44FE-AEB7-045466C9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CF842-15DA-41C3-A908-AF4C1F12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7B751-200F-446F-97B6-071F0CF6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6AC05-0E1C-4317-91EE-9255B1A7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B19C-CD20-415C-80CD-251897E2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2976A-1984-4327-AEC5-05B86100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6171D-83E2-4420-9341-0E440F35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F44A3-8677-4030-84C5-30B99375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BC5D6-E13C-4806-A6D3-603FF4C8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94436-3982-4928-9217-C494918D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FA6A0-AD29-4696-9865-83835788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2DA72-6212-4C12-87CE-6B77BE81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57E37-09EA-470E-9933-AFDA1390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6801E-7466-40BA-9125-26AC766A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95F7F-5517-4B50-97F2-877ECFFB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94F7-865B-40FA-AE83-88E123A9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B7F00-E323-4F98-92E5-B4EB58EA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6B1FF-0C54-4748-B222-61480EAE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EDC9F-784D-4DB7-A20A-80C7D41C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5123D-2D6A-4D24-B5AB-052DCDED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BD30A-E70C-4BCC-B430-A1166304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1881A-4356-4A3A-8F34-2E0A0ABE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25E2D-2AA5-4199-8EC1-867ED968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1853A-A0BF-4364-8A33-F051BD41A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0ABC9-6F54-4C50-9856-330CCBBF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F2BA6-6770-4555-9096-8C640B3B6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D11C-BD9C-49F9-B672-D85057DE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D7FF0-ECFA-4B98-9E99-BD6D4D9B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3CE31-747C-487A-9C49-27A8030C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B634C-C950-4D72-BE70-FC902158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0FA3E-5CC1-4119-9313-1B5C3487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2A2FA-C5BE-4966-988D-2B90E4AE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EB635-77B7-4A98-A933-B6B437FC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BB4A8-8025-4361-AA1B-9B044043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FF4DC-5805-4B7F-929E-7DBE6B6B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02606-E615-45D9-BFC3-BCB5DF16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94C31-DB9B-4EEA-89BD-4F12A6606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3EA7-7F99-4DDB-98E0-58265014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9F778-43DA-4CFB-B1B6-B155417B1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470D8-68D4-48DE-A5AA-8DE4A7159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DF9B4-DAAA-4F89-92D8-946BAC2E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7F5C6-2608-4571-AFF3-421A7A23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13AFC-403B-4238-9FFE-42144CB0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6BF78-835A-422A-97EE-B3DA3E74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8180A-29EE-41B9-80AB-BCF454ED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A5F59-9CD3-4660-A221-BD1093BF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F3269-7A6E-49E5-9C86-42BA885B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224E6-C433-45E6-AE6B-B7A0F967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9AD9-83AD-4592-A8B3-5F3F3DE8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7C47E-F71F-4B21-BF76-EBB02D42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5BB27-D8FE-4250-B2D7-4F7BEC0CD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583B1-F711-4A47-AF09-1030AB569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49D41-B990-4178-B38E-F8972519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27BAB-7570-4584-AE93-EB056B50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CC915-D089-4E5D-BCBC-BC7E2EA6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BE085-79C9-43E0-8486-B6889507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DC296-64E1-4916-B3A1-14E4BD71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4E9A5-63A4-4140-9F55-0A7C3806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0062D-85A2-4AC9-87BA-14DF3C9B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20AD-9CB0-4EAF-87EB-DFD90F68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2CB7D-E0C7-4965-8909-34E648B8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D9C40-AA9E-40C1-9014-70B0D412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251E2-6668-4C87-B2D8-7042C888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D8B53-CDC1-4449-9D1D-98EC99B9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DD9E2-8AD2-4793-BE87-04C320215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AF5D5-B8E3-4352-A9FD-60571924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936F0-E508-4C53-BFDF-6D2EE386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DCFB9-C455-492B-8954-371B4B3C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CCD9A-B697-4B4C-A629-08100DEE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C2DD7-807F-4684-BB80-6EED5DCD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7533-1827-4337-AE13-5DA179BB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E0EA1-FD0B-4E93-8E59-0A80E4AF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69360-FE00-47DA-BBA7-18D05D08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9A554-A806-4693-A254-BF996B10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617DB-3954-4363-B117-30B750BD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EBAB0-F7B5-4BD6-9FCD-B604318E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C789C-0FA6-49F8-A35B-F9A237715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B981D-EAB0-466B-84ED-8B31D50BA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7E8AD-CC13-4FF6-B166-F19CE0ABB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60241-039B-4FDD-A9C2-96A17E1B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46B6E-0293-429E-A031-F7DD0D51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29AE-D6DD-49C2-81D3-3D38B2786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697E-576E-4B27-8D14-A3834F6DC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0295-D0A4-4D33-A64E-E7B05A8B1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4541-8A02-48A3-917C-C84383372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E063-1C65-475E-9684-C281DFE18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B483-4A89-409C-B9AA-B2EC83681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3F98-BC1E-4A2F-8023-A954F52F0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3508-3104-4B05-818A-3CA3A454C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4E14-B05D-44E0-845F-AA3870834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A703-AB22-4315-BA19-5D715AEBA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5E1A-89A9-4011-A433-B0F31BA04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audio" Target="../media/RR.wav"/><Relationship Id="rId1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0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0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0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0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0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2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bridge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2411280" y="620640"/>
            <a:ext cx="432144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99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Curacao"/>
              </a:rPr>
              <a:t>ALBERTO</a:t>
            </a:r>
            <a:endParaRPr b="0" lang="en-US" sz="6000" spc="1" strike="noStrike">
              <a:ln w="9360">
                <a:solidFill>
                  <a:srgbClr val="ff99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Curacao"/>
              <a:ea typeface="Curacao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116000" y="4869000"/>
            <a:ext cx="6912000" cy="1108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ff993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Curacao"/>
              </a:rPr>
              <a:t>POWERPOINTSHOW</a:t>
            </a:r>
            <a:endParaRPr b="0" lang="en-US" sz="4800" spc="1" strike="noStrike">
              <a:ln w="9360">
                <a:solidFill>
                  <a:srgbClr val="ff993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Curacao"/>
              <a:ea typeface="Curacao"/>
            </a:endParaRPr>
          </a:p>
        </p:txBody>
      </p:sp>
      <p:pic>
        <p:nvPicPr>
          <p:cNvPr id="456" name="alberto flikkerende ster" descr=""/>
          <p:cNvPicPr/>
          <p:nvPr/>
        </p:nvPicPr>
        <p:blipFill>
          <a:blip r:embed="rId6"/>
          <a:stretch/>
        </p:blipFill>
        <p:spPr>
          <a:xfrm>
            <a:off x="0" y="0"/>
            <a:ext cx="800280" cy="809640"/>
          </a:xfrm>
          <a:prstGeom prst="rect">
            <a:avLst/>
          </a:prstGeom>
          <a:ln w="0">
            <a:noFill/>
          </a:ln>
        </p:spPr>
      </p:pic>
      <p:pic>
        <p:nvPicPr>
          <p:cNvPr id="457" name="alberto flikkerende ster" descr=""/>
          <p:cNvPicPr/>
          <p:nvPr/>
        </p:nvPicPr>
        <p:blipFill>
          <a:blip r:embed="rId7"/>
          <a:stretch/>
        </p:blipFill>
        <p:spPr>
          <a:xfrm>
            <a:off x="8308800" y="44280"/>
            <a:ext cx="800280" cy="809640"/>
          </a:xfrm>
          <a:prstGeom prst="rect">
            <a:avLst/>
          </a:prstGeom>
          <a:ln w="0">
            <a:noFill/>
          </a:ln>
        </p:spPr>
      </p:pic>
      <p:pic>
        <p:nvPicPr>
          <p:cNvPr id="458" name="alberto flikkerende ster" descr=""/>
          <p:cNvPicPr/>
          <p:nvPr/>
        </p:nvPicPr>
        <p:blipFill>
          <a:blip r:embed="rId8"/>
          <a:stretch/>
        </p:blipFill>
        <p:spPr>
          <a:xfrm>
            <a:off x="1395360" y="-27000"/>
            <a:ext cx="800280" cy="809640"/>
          </a:xfrm>
          <a:prstGeom prst="rect">
            <a:avLst/>
          </a:prstGeom>
          <a:ln w="0">
            <a:noFill/>
          </a:ln>
        </p:spPr>
      </p:pic>
      <p:pic>
        <p:nvPicPr>
          <p:cNvPr id="459" name="alberto flikkerende ster" descr=""/>
          <p:cNvPicPr/>
          <p:nvPr/>
        </p:nvPicPr>
        <p:blipFill>
          <a:blip r:embed="rId9"/>
          <a:stretch/>
        </p:blipFill>
        <p:spPr>
          <a:xfrm>
            <a:off x="684360" y="531720"/>
            <a:ext cx="799920" cy="809640"/>
          </a:xfrm>
          <a:prstGeom prst="rect">
            <a:avLst/>
          </a:prstGeom>
          <a:ln w="0">
            <a:noFill/>
          </a:ln>
        </p:spPr>
      </p:pic>
      <p:pic>
        <p:nvPicPr>
          <p:cNvPr id="460" name="alberto flikkerende ster" descr=""/>
          <p:cNvPicPr/>
          <p:nvPr/>
        </p:nvPicPr>
        <p:blipFill>
          <a:blip r:embed="rId10"/>
          <a:stretch/>
        </p:blipFill>
        <p:spPr>
          <a:xfrm>
            <a:off x="7659720" y="549360"/>
            <a:ext cx="799920" cy="809640"/>
          </a:xfrm>
          <a:prstGeom prst="rect">
            <a:avLst/>
          </a:prstGeom>
          <a:ln w="0">
            <a:noFill/>
          </a:ln>
        </p:spPr>
      </p:pic>
      <p:pic>
        <p:nvPicPr>
          <p:cNvPr id="461" name="alberto flikkerende ster" descr=""/>
          <p:cNvPicPr/>
          <p:nvPr/>
        </p:nvPicPr>
        <p:blipFill>
          <a:blip r:embed="rId11"/>
          <a:stretch/>
        </p:blipFill>
        <p:spPr>
          <a:xfrm>
            <a:off x="6940440" y="-27000"/>
            <a:ext cx="800280" cy="809640"/>
          </a:xfrm>
          <a:prstGeom prst="rect">
            <a:avLst/>
          </a:prstGeom>
          <a:ln w="0">
            <a:noFill/>
          </a:ln>
        </p:spPr>
      </p:pic>
      <p:pic>
        <p:nvPicPr>
          <p:cNvPr id="462" name="alberto druppel met roos" descr=""/>
          <p:cNvPicPr/>
          <p:nvPr/>
        </p:nvPicPr>
        <p:blipFill>
          <a:blip r:embed="rId12"/>
          <a:stretch/>
        </p:blipFill>
        <p:spPr>
          <a:xfrm>
            <a:off x="88920" y="5311800"/>
            <a:ext cx="882720" cy="1430280"/>
          </a:xfrm>
          <a:prstGeom prst="rect">
            <a:avLst/>
          </a:prstGeom>
          <a:ln w="0">
            <a:noFill/>
          </a:ln>
        </p:spPr>
      </p:pic>
      <p:pic>
        <p:nvPicPr>
          <p:cNvPr id="463" name="alberto druppel met roos" descr=""/>
          <p:cNvPicPr/>
          <p:nvPr/>
        </p:nvPicPr>
        <p:blipFill>
          <a:blip r:embed="rId13"/>
          <a:stretch/>
        </p:blipFill>
        <p:spPr>
          <a:xfrm>
            <a:off x="8226360" y="5300640"/>
            <a:ext cx="882720" cy="1430280"/>
          </a:xfrm>
          <a:prstGeom prst="rect">
            <a:avLst/>
          </a:prstGeom>
          <a:ln w="0">
            <a:noFill/>
          </a:ln>
        </p:spPr>
      </p:pic>
      <p:pic>
        <p:nvPicPr>
          <p:cNvPr id="464" name="gordijnen2 ali" descr=""/>
          <p:cNvPicPr/>
          <p:nvPr/>
        </p:nvPicPr>
        <p:blipFill>
          <a:blip r:embed="rId14"/>
          <a:stretch/>
        </p:blipFill>
        <p:spPr>
          <a:xfrm>
            <a:off x="0" y="0"/>
            <a:ext cx="4572000" cy="6885000"/>
          </a:xfrm>
          <a:prstGeom prst="rect">
            <a:avLst/>
          </a:prstGeom>
          <a:ln w="0">
            <a:noFill/>
          </a:ln>
        </p:spPr>
      </p:pic>
      <p:pic>
        <p:nvPicPr>
          <p:cNvPr id="465" name="gordijnen2 ali" descr=""/>
          <p:cNvPicPr/>
          <p:nvPr/>
        </p:nvPicPr>
        <p:blipFill>
          <a:blip r:embed="rId15"/>
          <a:stretch/>
        </p:blipFill>
        <p:spPr>
          <a:xfrm>
            <a:off x="4572000" y="0"/>
            <a:ext cx="4572000" cy="688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68840" y="-65160"/>
            <a:ext cx="6749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it is mijn oudere zus Ell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Ze heeft al 15 kinderen en het zij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allemaal al kleine crimineeltj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Ze heeft sinds kort een ziekte a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aar muts die flink jeukt en ruik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Afbeelding5" descr=""/>
          <p:cNvPicPr/>
          <p:nvPr/>
        </p:nvPicPr>
        <p:blipFill>
          <a:blip r:embed="rId2"/>
          <a:stretch/>
        </p:blipFill>
        <p:spPr>
          <a:xfrm>
            <a:off x="3095640" y="2997360"/>
            <a:ext cx="2952720" cy="38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08000" y="11160"/>
            <a:ext cx="871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Jethro is mijn beste nee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ij heeft een tomatenwinkel dicht bij de snelweg en er stopt bijna nie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ij heeft zich ooit eens 53 dagen n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gewassen en gescho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Afbeelding1" descr=""/>
          <p:cNvPicPr/>
          <p:nvPr/>
        </p:nvPicPr>
        <p:blipFill>
          <a:blip r:embed="rId2"/>
          <a:stretch/>
        </p:blipFill>
        <p:spPr>
          <a:xfrm>
            <a:off x="3132000" y="2997360"/>
            <a:ext cx="2997360" cy="38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411120" y="196920"/>
            <a:ext cx="8512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                        </a:t>
            </a: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it is Bu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ij is mijn tweede neef, hij is best slim.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Buck gaat ooit nog eens tandarts wo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ij doet nu al reparaties aan onze tanden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Afbeelding2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79396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25560" y="11160"/>
            <a:ext cx="768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it is mijn oom Arno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ie heeft vorig jaar het festiv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van gekkenbekken trekken gewonn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Afbeelding3" descr=""/>
          <p:cNvPicPr/>
          <p:nvPr/>
        </p:nvPicPr>
        <p:blipFill>
          <a:blip r:embed="rId2"/>
          <a:stretch/>
        </p:blipFill>
        <p:spPr>
          <a:xfrm>
            <a:off x="2700360" y="2205000"/>
            <a:ext cx="3736800" cy="465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36440" y="163440"/>
            <a:ext cx="7407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it is de huidige partner van mijn z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zijn naam is Lar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ij repareert grasmaaiers in de sta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mijn zus zegt dat hij een behaa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achterwerk he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Afbeelding4" descr=""/>
          <p:cNvPicPr/>
          <p:nvPr/>
        </p:nvPicPr>
        <p:blipFill>
          <a:blip r:embed="rId2"/>
          <a:stretch/>
        </p:blipFill>
        <p:spPr>
          <a:xfrm>
            <a:off x="3059280" y="3213000"/>
            <a:ext cx="2808000" cy="36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-57600" y="196920"/>
            <a:ext cx="8343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it is Micha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ij was mijn beste vriend maar hi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eeft een ongeluk gehad met de stadsb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Ik draag nog steeds zijn ondergo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Afbeelding5" descr=""/>
          <p:cNvPicPr/>
          <p:nvPr/>
        </p:nvPicPr>
        <p:blipFill>
          <a:blip r:embed="rId2"/>
          <a:stretch/>
        </p:blipFill>
        <p:spPr>
          <a:xfrm>
            <a:off x="3132000" y="3284640"/>
            <a:ext cx="2832120" cy="35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34280" y="196920"/>
            <a:ext cx="8224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it zijn twee kinderen waar we altijd tro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en rotzooi naar toegooi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Vroeger waren ze met z’n vie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Mama zegt dat we voortaan geen zw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ingen meer mogen gooi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Afbeelding6" descr=""/>
          <p:cNvPicPr/>
          <p:nvPr/>
        </p:nvPicPr>
        <p:blipFill>
          <a:blip r:embed="rId2"/>
          <a:stretch/>
        </p:blipFill>
        <p:spPr>
          <a:xfrm>
            <a:off x="2844720" y="3213000"/>
            <a:ext cx="3240000" cy="36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108000" y="93600"/>
            <a:ext cx="8610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Jack heeft ‘n record op zijn naam sta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ij heeft ooit eens over 7 auto’s gesprongen met zijn snorfiet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Jack botste heel veel en praat nu erg traa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Van de dokter moet hij vanaf nu een helm dra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Afbeelding1" descr=""/>
          <p:cNvPicPr/>
          <p:nvPr/>
        </p:nvPicPr>
        <p:blipFill>
          <a:blip r:embed="rId2"/>
          <a:stretch/>
        </p:blipFill>
        <p:spPr>
          <a:xfrm>
            <a:off x="3094200" y="3284640"/>
            <a:ext cx="241452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3059280" y="1111320"/>
            <a:ext cx="608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Mijn oom Marky heeft n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steeds problem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ij weet niet wat hij wil in het le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ij is een Vietnam oorlogs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en verkoopt nu parfum 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wapens in ‘n wink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Afbeelding2" descr=""/>
          <p:cNvPicPr/>
          <p:nvPr/>
        </p:nvPicPr>
        <p:blipFill>
          <a:blip r:embed="rId2"/>
          <a:stretch/>
        </p:blipFill>
        <p:spPr>
          <a:xfrm>
            <a:off x="0" y="333360"/>
            <a:ext cx="2768760" cy="612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874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it is mijn stiefbroer Ph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ij heeft ‘n paar jaar geleden ‘n jachtongeluk geh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e kogel zit juist boven zijn linkeroor, hij is moeilijk te verstaan, hij slist en stinkt naar bedorven ka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Afbeelding1" descr=""/>
          <p:cNvPicPr/>
          <p:nvPr/>
        </p:nvPicPr>
        <p:blipFill>
          <a:blip r:embed="rId2"/>
          <a:stretch/>
        </p:blipFill>
        <p:spPr>
          <a:xfrm>
            <a:off x="5003640" y="2924280"/>
            <a:ext cx="2881440" cy="39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611280" y="115920"/>
            <a:ext cx="82058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3333cc"/>
                </a:solidFill>
                <a:latin typeface="Century Schoolbook"/>
              </a:rPr>
              <a:t> </a:t>
            </a:r>
            <a:r>
              <a:rPr b="0" lang="en-US" sz="6600" spc="-1" strike="noStrike">
                <a:solidFill>
                  <a:srgbClr val="ffffff"/>
                </a:solidFill>
                <a:latin typeface="Century Schoolbook"/>
              </a:rPr>
              <a:t>Het verhaal m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entury Schoolbook"/>
              </a:rPr>
              <a:t>   </a:t>
            </a:r>
            <a:r>
              <a:rPr b="0" lang="en-US" sz="6600" spc="-1" strike="noStrike">
                <a:solidFill>
                  <a:srgbClr val="ffffff"/>
                </a:solidFill>
                <a:latin typeface="Century Schoolbook"/>
              </a:rPr>
              <a:t>foto’s van ee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6600" spc="-1" strike="noStrike">
                <a:solidFill>
                  <a:srgbClr val="ffffff"/>
                </a:solidFill>
                <a:latin typeface="Century Schoolbook"/>
              </a:rPr>
              <a:t>Texaanse familie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MDY_FLAG_TEXAS" descr=""/>
          <p:cNvPicPr/>
          <p:nvPr/>
        </p:nvPicPr>
        <p:blipFill>
          <a:blip r:embed="rId2"/>
          <a:stretch/>
        </p:blipFill>
        <p:spPr>
          <a:xfrm>
            <a:off x="2863800" y="5295960"/>
            <a:ext cx="3363840" cy="151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75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-1800" y="44280"/>
            <a:ext cx="8154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it is mijn tweelingbroer Be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We zijn 4 minuten na elkaar gebor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Bert maakte medische geschiedenis, t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ij uit mijn moeders buik viel tijd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et bar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Ik heb zo’n bloedhekel aan 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Afbeelding2" descr=""/>
          <p:cNvPicPr/>
          <p:nvPr/>
        </p:nvPicPr>
        <p:blipFill>
          <a:blip r:embed="rId2"/>
          <a:stretch/>
        </p:blipFill>
        <p:spPr>
          <a:xfrm>
            <a:off x="6372360" y="3357720"/>
            <a:ext cx="2771640" cy="35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108000" y="44280"/>
            <a:ext cx="8607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Mijn overgrootmoeder Getruda is altijd grappig, ze kauwt nog altijd op tabak en rijdt nog met de fiets zonder zad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Ze gaat uit met jongere mannen die nog tanden hebb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Afbeelding3" descr=""/>
          <p:cNvPicPr/>
          <p:nvPr/>
        </p:nvPicPr>
        <p:blipFill>
          <a:blip r:embed="rId2"/>
          <a:stretch/>
        </p:blipFill>
        <p:spPr>
          <a:xfrm>
            <a:off x="4230720" y="3068640"/>
            <a:ext cx="293364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-22680" y="196920"/>
            <a:ext cx="8978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it is mijn grootvader Jeromme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ij rookt al sinds hij 12 jaar was en hi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oest nog dagelijks van die grote pruimen o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Afbeelding4" descr=""/>
          <p:cNvPicPr/>
          <p:nvPr/>
        </p:nvPicPr>
        <p:blipFill>
          <a:blip r:embed="rId2"/>
          <a:stretch/>
        </p:blipFill>
        <p:spPr>
          <a:xfrm>
            <a:off x="2676600" y="2422440"/>
            <a:ext cx="3790800" cy="446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08000" y="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it is Barny een van mijn moeders part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ij heeft een inwendige infectie die hem veel winden doet la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Ik denk dat hij er voor gezorgd heeft dat onze hond Rebel daardoor dood is geg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Afbeelding1" descr=""/>
          <p:cNvPicPr/>
          <p:nvPr/>
        </p:nvPicPr>
        <p:blipFill>
          <a:blip r:embed="rId2"/>
          <a:stretch/>
        </p:blipFill>
        <p:spPr>
          <a:xfrm>
            <a:off x="3059280" y="3357720"/>
            <a:ext cx="2592360" cy="35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240" y="44280"/>
            <a:ext cx="7517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it is mijn “zus” Mol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Mijn moeder zegt dat ze gewoon o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‘</a:t>
            </a: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n dag voor onze caravan versch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en sindsdien niet meer weg gegaan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Afbeelding2" descr=""/>
          <p:cNvPicPr/>
          <p:nvPr/>
        </p:nvPicPr>
        <p:blipFill>
          <a:blip r:embed="rId2"/>
          <a:stretch/>
        </p:blipFill>
        <p:spPr>
          <a:xfrm>
            <a:off x="2705040" y="2708280"/>
            <a:ext cx="337968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0" y="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Mijn neef Eddie is naar New York gewe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eze zom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Een deel van het Vrijheidsbeeld is naar beneden gevallen en raakte hem op zijn hoof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Eddie heeft nu een I.Q. van een toma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Afbeelding3" descr=""/>
          <p:cNvPicPr/>
          <p:nvPr/>
        </p:nvPicPr>
        <p:blipFill>
          <a:blip r:embed="rId2"/>
          <a:stretch/>
        </p:blipFill>
        <p:spPr>
          <a:xfrm>
            <a:off x="2992320" y="3213000"/>
            <a:ext cx="301968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08000" y="272880"/>
            <a:ext cx="8591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it is Willy, wij hebben hem gevo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terwijl hij aan het slapen was o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onze carav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Mijn moeder leert hem nu toiletpapi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te gebrui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Afbeelding4" descr=""/>
          <p:cNvPicPr/>
          <p:nvPr/>
        </p:nvPicPr>
        <p:blipFill>
          <a:blip r:embed="rId2"/>
          <a:stretch/>
        </p:blipFill>
        <p:spPr>
          <a:xfrm>
            <a:off x="2978280" y="2782800"/>
            <a:ext cx="3187440" cy="410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08000" y="115920"/>
            <a:ext cx="7967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it is mijn halfbroer Boom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ij wil later politieagent word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Nu gaat hij al op patrouille in de stad om de slechterikken tegen te houden, goe 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Afbeelding5" descr=""/>
          <p:cNvPicPr/>
          <p:nvPr/>
        </p:nvPicPr>
        <p:blipFill>
          <a:blip r:embed="rId2"/>
          <a:stretch/>
        </p:blipFill>
        <p:spPr>
          <a:xfrm>
            <a:off x="3162240" y="3068640"/>
            <a:ext cx="277812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0" y="15228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Walter gaat heel vaak uit met mijn o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ij teelt pompoenen op 7 hectare van zijn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ij houdt ervan om oma achterna te lopen naakt in zijn pompoenenb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Afbeelding6" descr=""/>
          <p:cNvPicPr/>
          <p:nvPr/>
        </p:nvPicPr>
        <p:blipFill>
          <a:blip r:embed="rId2"/>
          <a:stretch/>
        </p:blipFill>
        <p:spPr>
          <a:xfrm>
            <a:off x="6210360" y="2997360"/>
            <a:ext cx="2970000" cy="38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59040" y="44280"/>
            <a:ext cx="8901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it is mijn derde neef Smit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ij werkt in een hondenkraagfabriek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e stad, hij werkt tien uur per dag, zes da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per wee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Elke elektrische hondenkraag wordt eer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op hem getest alvorens het in de wink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verkocht zal wo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Afbeelding1" descr=""/>
          <p:cNvPicPr/>
          <p:nvPr/>
        </p:nvPicPr>
        <p:blipFill>
          <a:blip r:embed="rId2"/>
          <a:stretch/>
        </p:blipFill>
        <p:spPr>
          <a:xfrm>
            <a:off x="6437160" y="3573360"/>
            <a:ext cx="2743200" cy="32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395280" y="222120"/>
            <a:ext cx="874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Schoolbook"/>
              </a:rPr>
              <a:t>                </a:t>
            </a:r>
            <a:r>
              <a:rPr b="0" lang="en-US" sz="3200" spc="-1" strike="noStrike">
                <a:solidFill>
                  <a:srgbClr val="eaeaea"/>
                </a:solidFill>
                <a:latin typeface="Century Schoolbook"/>
              </a:rPr>
              <a:t>Hallo daar, ik ben Charle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Schoolbook"/>
              </a:rPr>
              <a:t>Mama zegt dat ik wel het goeie uiterlijk heb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Schoolbook"/>
              </a:rPr>
              <a:t>maar niet het v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entury Schoolbook"/>
              </a:rPr>
              <a:t>Ik heb n.l. last van blaren en maagzwe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Afbeelding1" descr=""/>
          <p:cNvPicPr/>
          <p:nvPr/>
        </p:nvPicPr>
        <p:blipFill>
          <a:blip r:embed="rId2"/>
          <a:stretch/>
        </p:blipFill>
        <p:spPr>
          <a:xfrm>
            <a:off x="3564000" y="2698920"/>
            <a:ext cx="2520720" cy="415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60480" y="0"/>
            <a:ext cx="8797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it is mijn zus haar partner Pau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ij wil burgermeester van de stad word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ij haat kinderen en oude mens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Onze buurvrouw mevrouw Dot brengt hem voor de rechtbank omdat hij op haar baby gespuwd heef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Afbeelding2" descr=""/>
          <p:cNvPicPr/>
          <p:nvPr/>
        </p:nvPicPr>
        <p:blipFill>
          <a:blip r:embed="rId2"/>
          <a:stretch/>
        </p:blipFill>
        <p:spPr>
          <a:xfrm>
            <a:off x="3276720" y="3213000"/>
            <a:ext cx="2592360" cy="36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196920"/>
            <a:ext cx="8820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Mijn halfbroer Jim en zijn vrouw Pat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Zij is knap vind ik, ze kweken wiet en andere rotzooi in hun tu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Ze zijn niet van plan om later kinderen te gaan nem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Afbeelding3" descr=""/>
          <p:cNvPicPr/>
          <p:nvPr/>
        </p:nvPicPr>
        <p:blipFill>
          <a:blip r:embed="rId2"/>
          <a:stretch/>
        </p:blipFill>
        <p:spPr>
          <a:xfrm>
            <a:off x="3059280" y="2924280"/>
            <a:ext cx="2971800" cy="39607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 txBox="1"/>
          <p:nvPr/>
        </p:nvSpPr>
        <p:spPr>
          <a:xfrm>
            <a:off x="1905120" y="6172200"/>
            <a:ext cx="538776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3900"/>
                            </p:stCondLst>
                            <p:childTnLst>
                              <p:par>
                                <p:cTn id="4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4900"/>
                            </p:stCondLst>
                            <p:childTnLst>
                              <p:par>
                                <p:cTn id="425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6" dur="500" fill="hold"/>
                                        <p:tgtEl>
                                          <p:spTgt spid="5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-100440" y="44280"/>
            <a:ext cx="8344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it is mijn moeder Hil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Ze heeft veel partners gehad, een van 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eeft nu tijdelijk een ba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Ze zegt dat ik met een beetje  gelu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vuilnisman zou kunnen wo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Afbeelding2" descr=""/>
          <p:cNvPicPr/>
          <p:nvPr/>
        </p:nvPicPr>
        <p:blipFill>
          <a:blip r:embed="rId2"/>
          <a:stretch/>
        </p:blipFill>
        <p:spPr>
          <a:xfrm>
            <a:off x="3059280" y="2732040"/>
            <a:ext cx="3022560" cy="415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9800" y="163440"/>
            <a:ext cx="8850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it is mijn broer Han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ij zit in de gevangen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Wanneer hij vrijkomt, mag hij niet meer in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buurt van dieren en keukenmachines k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Afbeelding3" descr=""/>
          <p:cNvPicPr/>
          <p:nvPr/>
        </p:nvPicPr>
        <p:blipFill>
          <a:blip r:embed="rId2"/>
          <a:stretch/>
        </p:blipFill>
        <p:spPr>
          <a:xfrm>
            <a:off x="3059280" y="2757600"/>
            <a:ext cx="2997000" cy="412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44280"/>
            <a:ext cx="903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Mijn Grootmoeder Suzette woont bij ons in de caravan. Ze stinkt heel erg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Ze hangt veel in de bar en drinkt graag heuuuuul veuuuul b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Grootmoeder heeft overal zweren, de vliegen die rond haar hangen zijn vreselij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Afbeelding1" descr=""/>
          <p:cNvPicPr/>
          <p:nvPr/>
        </p:nvPicPr>
        <p:blipFill>
          <a:blip r:embed="rId2"/>
          <a:stretch/>
        </p:blipFill>
        <p:spPr>
          <a:xfrm>
            <a:off x="2768760" y="3141720"/>
            <a:ext cx="3606480" cy="37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-28800" y="44280"/>
            <a:ext cx="8853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Mijn moeder zegt dat ze bijna zeker weet d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dit mijn vader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Hij zit  in een Federale instelling in Mont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Wanneer hij vrijkomt (over 55 jaar) gaan w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samen gezellig viss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Afbeelding2" descr=""/>
          <p:cNvPicPr/>
          <p:nvPr/>
        </p:nvPicPr>
        <p:blipFill>
          <a:blip r:embed="rId2"/>
          <a:stretch/>
        </p:blipFill>
        <p:spPr>
          <a:xfrm>
            <a:off x="3067200" y="3068640"/>
            <a:ext cx="300960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00080" y="272880"/>
            <a:ext cx="8575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Mijn jongere zus Jill heeft al haar t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verlor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Ze was de slagroomklopper aan het aflikken terwijl hij nog aanst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Afbeelding3" descr=""/>
          <p:cNvPicPr/>
          <p:nvPr/>
        </p:nvPicPr>
        <p:blipFill>
          <a:blip r:embed="rId2"/>
          <a:stretch/>
        </p:blipFill>
        <p:spPr>
          <a:xfrm>
            <a:off x="3156120" y="2820960"/>
            <a:ext cx="2831760" cy="406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08000" y="196920"/>
            <a:ext cx="8151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Wij zijn heel erg blij met onze oud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broer Barney. Hij is 27 ja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Later wil hij dokter worden, hij kan n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Century Schoolbook"/>
              </a:rPr>
              <a:t>zijn eigen naam al schrijven, goe 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Afbeelding4" descr=""/>
          <p:cNvPicPr/>
          <p:nvPr/>
        </p:nvPicPr>
        <p:blipFill>
          <a:blip r:embed="rId2"/>
          <a:stretch/>
        </p:blipFill>
        <p:spPr>
          <a:xfrm>
            <a:off x="3060720" y="2779560"/>
            <a:ext cx="3022560" cy="41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15:30:16Z</dcterms:created>
  <dc:creator>Bill Gates</dc:creator>
  <dc:description/>
  <dc:language>en-US</dc:language>
  <cp:lastModifiedBy>Smets</cp:lastModifiedBy>
  <dcterms:modified xsi:type="dcterms:W3CDTF">2008-10-12T03:36:30Z</dcterms:modified>
  <cp:revision>47</cp:revision>
  <dc:subject/>
  <dc:title>Dia 1</dc:title>
</cp:coreProperties>
</file>