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12.jpeg" ContentType="image/jpeg"/>
  <Override PartName="/ppt/media/RR.wav" ContentType="audio/x-wav"/>
  <Override PartName="/ppt/media/image29.jpeg" ContentType="image/jpeg"/>
  <Override PartName="/ppt/media/image37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660-94E5-4B66-9FEE-7FF683D7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C3A-ADBB-46CB-A049-2CB68FD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AF639-FF98-4F43-B263-4DFB0E0E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FA17B-EA2F-4C9B-AF3D-AAD8675A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9AA74-AB13-403B-A05F-6C07559E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D90A6-22FF-43F2-B6EB-802AEB04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3344E-9F6A-49B0-B307-C7CEB538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1D42A-AD7F-4B01-A47B-48277D36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13C8C-98FC-41D1-9CD7-BF22F580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A0B9D-2B66-4A9E-9F4F-774DF62D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6D13D-65D9-4FC2-8BCD-4FF21094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F50B9-4EB3-4BC7-8FAC-C24B4F2C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E7F-0FB1-4BC2-8867-F79EA201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CD089-2AA8-465C-BC90-B0DC35DB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A9CB5-5762-433F-9EA5-7BDF5A0C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2F278-EEC3-45D1-841F-85C4BF53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EDD53-DB07-49B1-ADE3-32D2C35F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F98F7-83DB-4A13-A679-91C0386D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43612-57E0-48BD-9EA0-40BD7E2F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C86EA-3541-415D-9FD4-460C06E9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3C54B-6EBA-4F9C-8F96-EE3BBB7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CC5FF-3587-47C2-AC90-6E00AFEE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B05E5-ABA6-4DA8-A0E0-277ED188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471-BA54-4E45-B5E7-464EEC0E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E6961-3B6C-405E-9534-F0C64DC2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04A48-4AD1-4587-AA5B-A582E3C2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EC22C-C7B5-42C9-A0C3-A44737A3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581C8-AE43-47E8-A023-1C2889AE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A4CCD-44CB-4AF0-932A-4BDE380F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0A1F-FBDE-4D8E-965D-DE3237CA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32A0B-5949-4216-B5DE-76D4B5D0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D073A-19E9-487F-9886-4F7E98CD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68340-B898-4143-9231-E6E7DC1D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1F8E4-CCCA-4F30-852B-C5B2244D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27BA-2220-441C-AEEE-C01AF9BD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DB90D-AD86-4D68-A89E-79FE7897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D3974-F2EA-41AA-9BEC-DD5CA7E1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9442B-F06D-4237-A587-4A97C060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272E-81BE-4CD2-B2F0-FF9D216B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5E12-392F-4302-9C43-2D4B2598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315C-6BF3-45C9-AC0D-F71BE74B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57CA-FC39-49F5-9F18-D875BA6C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AB10-AAFF-4279-BDD9-B17159C2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DC72-DB94-4E1E-925D-D381363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CA3-FAD9-4FAD-A4AA-AF73EF69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AB4E-F9E8-4D4D-BB0C-5377EC98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2AF4-33A6-4C97-8AAC-56973351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3759-BF28-4557-A71E-9D5BF6B3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B286-A22C-42D6-B755-845CFB1A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21D6-A381-4790-A770-CFCBD929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9706-2D2D-4412-BEFB-86C4D472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CD16-3817-4A21-B841-463E78B1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42BFD-947E-4C38-8EE0-F9BFEC9D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F100-7546-48FB-BA67-E4CFF9B5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6C33-02D3-49E7-A64D-C72584F3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EBD-7C89-4420-BF9C-2EC3C38F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48C9-D96A-4108-82EE-2980D75E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C376-85C9-46A1-B91B-632D96B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6BDD-5DFD-4F35-97B3-CAE13F2A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67E2F-72F7-4B68-AFAF-D660E730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E4AC2-E7ED-43D7-B5B7-F876F856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485B-E8A2-4703-9D58-38B14EDD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5D5E-C711-4B7F-9C30-965A127B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310A-9E6F-46A2-BE75-AD8F2D7E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FD3F-54D1-41D6-BCE3-8EFD4922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8791-12EB-4CD4-9E75-ECE98C5C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3A8-CFBA-4FD0-9CCD-685FD06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81D6-F6CB-4C21-8261-EC554EA2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96655-40EF-494D-9A06-24DA3847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01D7-A8E7-40D8-B129-5977EB1E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70A1C-D0EB-4900-B241-011FA6D3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6DB1-C6D5-4160-9BC7-9CA17D2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6B4E2-6EFC-4C53-8566-1F8F6D87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21B10-E68D-4EDA-9532-727AA82C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79E15-0FC2-455F-9F8A-F1E2731D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C7169-5BF0-4338-8C21-271470E2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94111-1143-40D9-AAFD-CD24AC8A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437-E78A-4F8D-AAB5-EE1AA379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54A2C-C2C8-461E-92EB-9D8DD5EA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AEEA-4C48-417F-96F2-C3B9E62A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5D530-D40A-4B58-8CA3-519FAF0E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B19B-DFDE-40A9-BB0B-739C863E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6213A-106B-4C17-952A-37BE4927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D9BE5-E67C-475E-94C4-93F8458C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26D95-E7FB-4BBD-9773-7C515159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D5830-46BE-4B3B-A3C0-CD613F23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6960F-B72A-43BA-99A3-DAA7CDE4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868D0-B97C-4976-977C-122646B5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BA6-9E22-487E-A5A2-60DF9BDC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FFC83-792E-4621-89F2-6DC8C56B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12508-9F2B-4B4D-81AF-D04A5FE5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B5EAE-E76F-4F8C-9C64-056DB70C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B966E-8685-437B-8F71-7B39F8B8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27C84-F9AB-4A06-BD0A-55946E72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21113-EE6D-45C7-B3C6-ABCD6C32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28A60-B42F-44D0-8554-A52ECEFA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1AFD2-FD95-4928-B00F-4800BC23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E27EF-97D0-49F6-AB51-10E4584F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EAA23-2F0E-4628-A866-93269DC5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5D3-8D48-4777-9BD5-88A1932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B1ACD-CEFF-4FF5-B7BF-25A53CDD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FF01C-B158-4006-8885-CCA5CBBC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76C33-CA45-4CA7-99BC-902C0D0A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3728-FA9A-4A7E-AF09-42428315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0B139-47CD-4F97-82FF-6A078131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5FA21-C99F-4402-9BA8-B907F0DF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299FE-4620-4ED1-8CF9-98CCDE1F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029D6-A396-4C46-80C3-26207CE5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10347-9450-4F55-9061-E590382E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32D62-5FF2-4B38-A4E7-7C132FC1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9A4-07C1-4E73-9C5D-4E599D6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6122B-110E-4252-9ACA-3F3739EE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8F25F-4358-4BB6-9E12-4C8E08B6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2E9AA-8FEF-4D59-830E-EDE747DB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CE128-DE67-4AB9-B224-E93D8EBC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AE295-6B73-4E9C-B5F3-64C8D7C1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30381-7322-49EF-B860-B820175B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D2BBB-F484-4FD0-9DB5-170AC14C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695B8-8E3C-43EB-861C-1D0F5D17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E85B7-166B-43AB-83FA-192BA332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3D9F7-1B20-4728-9F86-7D92B46A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DF6-8F20-47CB-9897-6E1F791F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DFD80-BA3C-4E83-A53F-062DD439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2FEB9-FCA3-491A-A5F6-50D9C82A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869E8-17D5-4EDF-89F1-193FCE4A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76DF6-8A48-46F0-A449-0F65E782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6745A-10AA-4D72-98D0-621D537A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9EEC1-D225-45DA-8171-E50C2A1A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0FF51-9101-4C4C-867B-33AEDBCA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4DBAD-34E9-47A9-B75E-01742AF0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644B2-7DA0-4EF7-895B-BCF9241C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02D4C-2ED5-4DE0-B773-EA5968F8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A888-5FAE-4050-B003-9F62A3900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C916-DB58-43B2-8CFE-117BDF710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0557-C3C9-45D2-B3BA-95B9A755D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8366-E0B1-4D19-A982-7AD8A417A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E732-ECCD-45A2-BFF7-3EE90D14D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A172-FBD4-4216-8D55-F2066FC9A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1023-83A4-4DA9-91BF-CD8371366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E7B5-6A8A-4772-B5CE-8B95F1836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CF8D-7D05-4B51-9119-8F6F83A60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F319-54D6-4821-B19E-6E5E40D8B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FF33-4E06-4F40-92BB-EB943B431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audio" Target="../media/RR.wav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brid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2411280" y="620640"/>
            <a:ext cx="432144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uracao"/>
              </a:rPr>
              <a:t>ALBERTO</a:t>
            </a:r>
            <a:endParaRPr b="0" lang="en-US" sz="60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uracao"/>
              <a:ea typeface="Curacao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116000" y="4869000"/>
            <a:ext cx="6912000" cy="110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993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uracao"/>
              </a:rPr>
              <a:t>POWERPOINTSHOW</a:t>
            </a:r>
            <a:endParaRPr b="0" lang="en-US" sz="4800" spc="1" strike="noStrike">
              <a:ln w="9360">
                <a:solidFill>
                  <a:srgbClr val="ff993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Curacao"/>
              <a:ea typeface="Curacao"/>
            </a:endParaRPr>
          </a:p>
        </p:txBody>
      </p:sp>
      <p:pic>
        <p:nvPicPr>
          <p:cNvPr id="456" name="alberto flikkerende ster" descr=""/>
          <p:cNvPicPr/>
          <p:nvPr/>
        </p:nvPicPr>
        <p:blipFill>
          <a:blip r:embed="rId6"/>
          <a:stretch/>
        </p:blipFill>
        <p:spPr>
          <a:xfrm>
            <a:off x="0" y="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457" name="alberto flikkerende ster" descr=""/>
          <p:cNvPicPr/>
          <p:nvPr/>
        </p:nvPicPr>
        <p:blipFill>
          <a:blip r:embed="rId7"/>
          <a:stretch/>
        </p:blipFill>
        <p:spPr>
          <a:xfrm>
            <a:off x="8308800" y="4428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458" name="alberto flikkerende ster" descr=""/>
          <p:cNvPicPr/>
          <p:nvPr/>
        </p:nvPicPr>
        <p:blipFill>
          <a:blip r:embed="rId8"/>
          <a:stretch/>
        </p:blipFill>
        <p:spPr>
          <a:xfrm>
            <a:off x="1395360" y="-2700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459" name="alberto flikkerende ster" descr=""/>
          <p:cNvPicPr/>
          <p:nvPr/>
        </p:nvPicPr>
        <p:blipFill>
          <a:blip r:embed="rId9"/>
          <a:stretch/>
        </p:blipFill>
        <p:spPr>
          <a:xfrm>
            <a:off x="684360" y="531720"/>
            <a:ext cx="799920" cy="809640"/>
          </a:xfrm>
          <a:prstGeom prst="rect">
            <a:avLst/>
          </a:prstGeom>
          <a:ln w="0">
            <a:noFill/>
          </a:ln>
        </p:spPr>
      </p:pic>
      <p:pic>
        <p:nvPicPr>
          <p:cNvPr id="460" name="alberto flikkerende ster" descr=""/>
          <p:cNvPicPr/>
          <p:nvPr/>
        </p:nvPicPr>
        <p:blipFill>
          <a:blip r:embed="rId10"/>
          <a:stretch/>
        </p:blipFill>
        <p:spPr>
          <a:xfrm>
            <a:off x="7659720" y="549360"/>
            <a:ext cx="799920" cy="809640"/>
          </a:xfrm>
          <a:prstGeom prst="rect">
            <a:avLst/>
          </a:prstGeom>
          <a:ln w="0">
            <a:noFill/>
          </a:ln>
        </p:spPr>
      </p:pic>
      <p:pic>
        <p:nvPicPr>
          <p:cNvPr id="461" name="alberto flikkerende ster" descr=""/>
          <p:cNvPicPr/>
          <p:nvPr/>
        </p:nvPicPr>
        <p:blipFill>
          <a:blip r:embed="rId11"/>
          <a:stretch/>
        </p:blipFill>
        <p:spPr>
          <a:xfrm>
            <a:off x="6940440" y="-2700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462" name="alberto druppel met roos" descr=""/>
          <p:cNvPicPr/>
          <p:nvPr/>
        </p:nvPicPr>
        <p:blipFill>
          <a:blip r:embed="rId12"/>
          <a:stretch/>
        </p:blipFill>
        <p:spPr>
          <a:xfrm>
            <a:off x="88920" y="5311800"/>
            <a:ext cx="882720" cy="1430280"/>
          </a:xfrm>
          <a:prstGeom prst="rect">
            <a:avLst/>
          </a:prstGeom>
          <a:ln w="0">
            <a:noFill/>
          </a:ln>
        </p:spPr>
      </p:pic>
      <p:pic>
        <p:nvPicPr>
          <p:cNvPr id="463" name="alberto druppel met roos" descr=""/>
          <p:cNvPicPr/>
          <p:nvPr/>
        </p:nvPicPr>
        <p:blipFill>
          <a:blip r:embed="rId13"/>
          <a:stretch/>
        </p:blipFill>
        <p:spPr>
          <a:xfrm>
            <a:off x="8226360" y="5300640"/>
            <a:ext cx="882720" cy="1430280"/>
          </a:xfrm>
          <a:prstGeom prst="rect">
            <a:avLst/>
          </a:prstGeom>
          <a:ln w="0">
            <a:noFill/>
          </a:ln>
        </p:spPr>
      </p:pic>
      <p:pic>
        <p:nvPicPr>
          <p:cNvPr id="464" name="gordijnen2 ali" descr=""/>
          <p:cNvPicPr/>
          <p:nvPr/>
        </p:nvPicPr>
        <p:blipFill>
          <a:blip r:embed="rId14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465" name="gordijnen2 ali" descr=""/>
          <p:cNvPicPr/>
          <p:nvPr/>
        </p:nvPicPr>
        <p:blipFill>
          <a:blip r:embed="rId15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68840" y="-65160"/>
            <a:ext cx="6749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oudere zus Ell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heeft al 15 kinderen en het zij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allemaal al kleine crimineeltj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heeft sinds kort een ziekte 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aar muts die flink jeukt en rui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Afbeelding5" descr=""/>
          <p:cNvPicPr/>
          <p:nvPr/>
        </p:nvPicPr>
        <p:blipFill>
          <a:blip r:embed="rId2"/>
          <a:stretch/>
        </p:blipFill>
        <p:spPr>
          <a:xfrm>
            <a:off x="3095640" y="2997360"/>
            <a:ext cx="295272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08000" y="11160"/>
            <a:ext cx="871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Jethro is mijn beste nee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eeft een tomatenwinkel dicht bij de snelweg en er stopt bijna ni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eeft zich ooit eens 53 dagen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gewassen en gesch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Afbeelding1" descr=""/>
          <p:cNvPicPr/>
          <p:nvPr/>
        </p:nvPicPr>
        <p:blipFill>
          <a:blip r:embed="rId2"/>
          <a:stretch/>
        </p:blipFill>
        <p:spPr>
          <a:xfrm>
            <a:off x="3132000" y="2997360"/>
            <a:ext cx="299736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411120" y="196920"/>
            <a:ext cx="851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B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is mijn tweede neef, hij is best slim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Buck gaat ooit nog eens tandarts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doet nu al reparaties aan onze tanden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Afbeelding2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79396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5560" y="11160"/>
            <a:ext cx="768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oom Arn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e heeft vorig jaar het festi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an gekkenbekken trekken gewonn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Afbeelding3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373680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36440" y="163440"/>
            <a:ext cx="7407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de huidige partner van mijn z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ijn naam is La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repareert grasmaaiers in de s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zus zegt dat hij een beha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achterwerk he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Afbeelding4" descr=""/>
          <p:cNvPicPr/>
          <p:nvPr/>
        </p:nvPicPr>
        <p:blipFill>
          <a:blip r:embed="rId2"/>
          <a:stretch/>
        </p:blipFill>
        <p:spPr>
          <a:xfrm>
            <a:off x="3059280" y="3213000"/>
            <a:ext cx="280800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-57600" y="196920"/>
            <a:ext cx="834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ch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was mijn beste vriend maar hi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eeft een ongeluk gehad met de stads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Ik draag nog steeds zijn ondergo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Afbeelding5" descr=""/>
          <p:cNvPicPr/>
          <p:nvPr/>
        </p:nvPicPr>
        <p:blipFill>
          <a:blip r:embed="rId2"/>
          <a:stretch/>
        </p:blipFill>
        <p:spPr>
          <a:xfrm>
            <a:off x="3132000" y="3284640"/>
            <a:ext cx="283212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34280" y="196920"/>
            <a:ext cx="8224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zijn twee kinderen waar we altijd tro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n rotzooi naar toegoo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roeger waren ze met z’n vi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ama zegt dat we voortaan geen z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ngen meer mogen goo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Afbeelding6" descr=""/>
          <p:cNvPicPr/>
          <p:nvPr/>
        </p:nvPicPr>
        <p:blipFill>
          <a:blip r:embed="rId2"/>
          <a:stretch/>
        </p:blipFill>
        <p:spPr>
          <a:xfrm>
            <a:off x="2844720" y="3213000"/>
            <a:ext cx="324000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08000" y="9360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Jack heeft ‘n record op zijn naam 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eeft ooit eens over 7 auto’s gesprongen met zijn snorfiet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Jack botste heel veel en praat nu erg tra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an de dokter moet hij vanaf nu een helm dra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Afbeelding1" descr=""/>
          <p:cNvPicPr/>
          <p:nvPr/>
        </p:nvPicPr>
        <p:blipFill>
          <a:blip r:embed="rId2"/>
          <a:stretch/>
        </p:blipFill>
        <p:spPr>
          <a:xfrm>
            <a:off x="3094200" y="3284640"/>
            <a:ext cx="241452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059280" y="1111320"/>
            <a:ext cx="608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oom Marky heeft 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steeds proble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weet niet wat hij wil in het le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is een Vietnam oorlogs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n verkoopt nu parfum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apens in ‘n wink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Afbeelding2" descr=""/>
          <p:cNvPicPr/>
          <p:nvPr/>
        </p:nvPicPr>
        <p:blipFill>
          <a:blip r:embed="rId2"/>
          <a:stretch/>
        </p:blipFill>
        <p:spPr>
          <a:xfrm>
            <a:off x="0" y="333360"/>
            <a:ext cx="276876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87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stiefbroer Ph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eeft ‘n paar jaar geleden ‘n jachtongeluk geh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e kogel zit juist boven zijn linkeroor, hij is moeilijk te verstaan, hij slist en stinkt naar bedorven ka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Afbeelding1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288144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11280" y="115920"/>
            <a:ext cx="8205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Het verhaal m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foto’s van e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Texaanse famili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MDY_FLAG_TEXAS" descr=""/>
          <p:cNvPicPr/>
          <p:nvPr/>
        </p:nvPicPr>
        <p:blipFill>
          <a:blip r:embed="rId2"/>
          <a:stretch/>
        </p:blipFill>
        <p:spPr>
          <a:xfrm>
            <a:off x="2863800" y="5295960"/>
            <a:ext cx="336384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-1800" y="44280"/>
            <a:ext cx="815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tweelingbroer B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e zijn 4 minuten na elkaar gebo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Bert maakte medische geschiedenis, t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uit mijn moeders buik viel tij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et ba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Ik heb zo’n bloedhekel aan 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Afbeelding2" descr=""/>
          <p:cNvPicPr/>
          <p:nvPr/>
        </p:nvPicPr>
        <p:blipFill>
          <a:blip r:embed="rId2"/>
          <a:stretch/>
        </p:blipFill>
        <p:spPr>
          <a:xfrm>
            <a:off x="6372360" y="3357720"/>
            <a:ext cx="277164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8000" y="44280"/>
            <a:ext cx="860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overgrootmoeder Getruda is altijd grappig, ze kauwt nog altijd op tabak en rijdt nog met de fiets zonder zad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gaat uit met jongere mannen die nog tanden heb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Afbeelding3" descr=""/>
          <p:cNvPicPr/>
          <p:nvPr/>
        </p:nvPicPr>
        <p:blipFill>
          <a:blip r:embed="rId2"/>
          <a:stretch/>
        </p:blipFill>
        <p:spPr>
          <a:xfrm>
            <a:off x="4230720" y="3068640"/>
            <a:ext cx="29336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22680" y="196920"/>
            <a:ext cx="897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grootvader Jeromme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rookt al sinds hij 12 jaar was en hi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oest nog dagelijks van die grote pruimen 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Afbeelding4" descr=""/>
          <p:cNvPicPr/>
          <p:nvPr/>
        </p:nvPicPr>
        <p:blipFill>
          <a:blip r:embed="rId2"/>
          <a:stretch/>
        </p:blipFill>
        <p:spPr>
          <a:xfrm>
            <a:off x="2676600" y="2422440"/>
            <a:ext cx="3790800" cy="44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08000" y="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Barny een van mijn moeders part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eeft een inwendige infectie die hem veel winden doet la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Ik denk dat hij er voor gezorgd heeft dat onze hond Rebel daardoor dood is ge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Afbeelding1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259236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40" y="44280"/>
            <a:ext cx="7517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“zus” Mo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moeder zegt dat ze gewoon 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‘</a:t>
            </a: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n dag voor onze caravan versch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n sindsdien niet meer weg gegaa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Afbeelding2" descr=""/>
          <p:cNvPicPr/>
          <p:nvPr/>
        </p:nvPicPr>
        <p:blipFill>
          <a:blip r:embed="rId2"/>
          <a:stretch/>
        </p:blipFill>
        <p:spPr>
          <a:xfrm>
            <a:off x="2705040" y="2708280"/>
            <a:ext cx="33796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neef Eddie is naar New York gewe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eze zo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en deel van het Vrijheidsbeeld is naar beneden gevallen en raakte hem op zijn hoof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ddie heeft nu een I.Q. van een toma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Afbeelding3" descr=""/>
          <p:cNvPicPr/>
          <p:nvPr/>
        </p:nvPicPr>
        <p:blipFill>
          <a:blip r:embed="rId2"/>
          <a:stretch/>
        </p:blipFill>
        <p:spPr>
          <a:xfrm>
            <a:off x="2992320" y="3213000"/>
            <a:ext cx="301968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08000" y="272880"/>
            <a:ext cx="8591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Willy, wij hebben hem gev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terwijl hij aan het slapen was 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onze carav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moeder leert hem nu toiletpap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te gebrui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Afbeelding4" descr=""/>
          <p:cNvPicPr/>
          <p:nvPr/>
        </p:nvPicPr>
        <p:blipFill>
          <a:blip r:embed="rId2"/>
          <a:stretch/>
        </p:blipFill>
        <p:spPr>
          <a:xfrm>
            <a:off x="2978280" y="2782800"/>
            <a:ext cx="3187440" cy="41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08000" y="115920"/>
            <a:ext cx="796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halfbroer Boom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wil later politieagent wor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Nu gaat hij al op patrouille in de stad om de slechterikken tegen te houden, goe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Afbeelding5" descr=""/>
          <p:cNvPicPr/>
          <p:nvPr/>
        </p:nvPicPr>
        <p:blipFill>
          <a:blip r:embed="rId2"/>
          <a:stretch/>
        </p:blipFill>
        <p:spPr>
          <a:xfrm>
            <a:off x="3162240" y="3068640"/>
            <a:ext cx="27781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1522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alter gaat heel vaak uit met mijn o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teelt pompoenen op 7 hectare van zijn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oudt ervan om oma achterna te lopen naakt in zijn pompoenenb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Afbeelding6" descr=""/>
          <p:cNvPicPr/>
          <p:nvPr/>
        </p:nvPicPr>
        <p:blipFill>
          <a:blip r:embed="rId2"/>
          <a:stretch/>
        </p:blipFill>
        <p:spPr>
          <a:xfrm>
            <a:off x="6210360" y="2997360"/>
            <a:ext cx="29700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9040" y="44280"/>
            <a:ext cx="89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derde neef Smit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werkt in een hondenkraagfabriek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e stad, hij werkt tien uur per dag, zes da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per we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lke elektrische hondenkraag wordt ee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op hem getest alvorens het in de wink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erkocht zal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Afbeelding1" descr=""/>
          <p:cNvPicPr/>
          <p:nvPr/>
        </p:nvPicPr>
        <p:blipFill>
          <a:blip r:embed="rId2"/>
          <a:stretch/>
        </p:blipFill>
        <p:spPr>
          <a:xfrm>
            <a:off x="6437160" y="3573360"/>
            <a:ext cx="274320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95280" y="22212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Schoolbook"/>
              </a:rPr>
              <a:t>                </a:t>
            </a:r>
            <a:r>
              <a:rPr b="0" lang="en-US" sz="3200" spc="-1" strike="noStrike">
                <a:solidFill>
                  <a:srgbClr val="eaeaea"/>
                </a:solidFill>
                <a:latin typeface="Century Schoolbook"/>
              </a:rPr>
              <a:t>Hallo daar, ik ben Charl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Schoolbook"/>
              </a:rPr>
              <a:t>Mama zegt dat ik wel het goeie uiterlijk he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Schoolbook"/>
              </a:rPr>
              <a:t>maar niet het v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Schoolbook"/>
              </a:rPr>
              <a:t>Ik heb n.l. last van blaren en maagzw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Afbeelding1" descr=""/>
          <p:cNvPicPr/>
          <p:nvPr/>
        </p:nvPicPr>
        <p:blipFill>
          <a:blip r:embed="rId2"/>
          <a:stretch/>
        </p:blipFill>
        <p:spPr>
          <a:xfrm>
            <a:off x="3564000" y="2698920"/>
            <a:ext cx="2520720" cy="41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0480" y="0"/>
            <a:ext cx="879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zus haar partner Pa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wil burgermeester van de stad wor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aat kinderen en oude men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Onze buurvrouw mevrouw Dot brengt hem voor de rechtbank omdat hij op haar baby gespuwd hee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Afbeelding2" descr=""/>
          <p:cNvPicPr/>
          <p:nvPr/>
        </p:nvPicPr>
        <p:blipFill>
          <a:blip r:embed="rId2"/>
          <a:stretch/>
        </p:blipFill>
        <p:spPr>
          <a:xfrm>
            <a:off x="3276720" y="3213000"/>
            <a:ext cx="259236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196920"/>
            <a:ext cx="88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halfbroer Jim en zijn vrouw Pat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ij is knap vind ik, ze kweken wiet en andere rotzooi in hun tu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zijn niet van plan om later kinderen te gaan ne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Afbeelding3" descr=""/>
          <p:cNvPicPr/>
          <p:nvPr/>
        </p:nvPicPr>
        <p:blipFill>
          <a:blip r:embed="rId2"/>
          <a:stretch/>
        </p:blipFill>
        <p:spPr>
          <a:xfrm>
            <a:off x="3059280" y="2924280"/>
            <a:ext cx="2971800" cy="39607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1905120" y="61722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39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4900"/>
                            </p:stCondLst>
                            <p:childTnLst>
                              <p:par>
                                <p:cTn id="42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6" dur="500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-100440" y="44280"/>
            <a:ext cx="8344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moeder Hi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heeft veel partners gehad, een van 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eeft nu tijdelijk een b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zegt dat ik met een beetje  gelu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uilnisman zou kunnen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Afbeelding2" descr=""/>
          <p:cNvPicPr/>
          <p:nvPr/>
        </p:nvPicPr>
        <p:blipFill>
          <a:blip r:embed="rId2"/>
          <a:stretch/>
        </p:blipFill>
        <p:spPr>
          <a:xfrm>
            <a:off x="3059280" y="2732040"/>
            <a:ext cx="302256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9800" y="163440"/>
            <a:ext cx="885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broer Ha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zit in de gevangen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anneer hij vrijkomt, mag hij niet meer in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buurt van dieren en keukenmachines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Afbeelding3" descr=""/>
          <p:cNvPicPr/>
          <p:nvPr/>
        </p:nvPicPr>
        <p:blipFill>
          <a:blip r:embed="rId2"/>
          <a:stretch/>
        </p:blipFill>
        <p:spPr>
          <a:xfrm>
            <a:off x="3059280" y="2757600"/>
            <a:ext cx="2997000" cy="41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44280"/>
            <a:ext cx="90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Grootmoeder Suzette woont bij ons in de caravan. Ze stinkt heel er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hangt veel in de bar en drinkt graag heuuuuul veuuuul b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Grootmoeder heeft overal zweren, de vliegen die rond haar hangen zijn vreselij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Afbeelding1" descr=""/>
          <p:cNvPicPr/>
          <p:nvPr/>
        </p:nvPicPr>
        <p:blipFill>
          <a:blip r:embed="rId2"/>
          <a:stretch/>
        </p:blipFill>
        <p:spPr>
          <a:xfrm>
            <a:off x="2768760" y="3141720"/>
            <a:ext cx="360648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-28800" y="44280"/>
            <a:ext cx="885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moeder zegt dat ze bijna zeker weet d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mijn vader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zit  in een Federale instelling in Mont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anneer hij vrijkomt (over 55 jaar) gaan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samen gezellig viss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Afbeelding2" descr=""/>
          <p:cNvPicPr/>
          <p:nvPr/>
        </p:nvPicPr>
        <p:blipFill>
          <a:blip r:embed="rId2"/>
          <a:stretch/>
        </p:blipFill>
        <p:spPr>
          <a:xfrm>
            <a:off x="3067200" y="3068640"/>
            <a:ext cx="30096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00080" y="272880"/>
            <a:ext cx="85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jongere zus Jill heeft al haar t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erlo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was de slagroomklopper aan het aflikken terwijl hij nog aanst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Afbeelding3" descr=""/>
          <p:cNvPicPr/>
          <p:nvPr/>
        </p:nvPicPr>
        <p:blipFill>
          <a:blip r:embed="rId2"/>
          <a:stretch/>
        </p:blipFill>
        <p:spPr>
          <a:xfrm>
            <a:off x="3156120" y="2820960"/>
            <a:ext cx="2831760" cy="40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08000" y="196920"/>
            <a:ext cx="815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ij zijn heel erg blij met onze oud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broer Barney. Hij is 27 ja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Later wil hij dokter worden, hij kan 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ijn eigen naam al schrijven, goe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Afbeelding4" descr=""/>
          <p:cNvPicPr/>
          <p:nvPr/>
        </p:nvPicPr>
        <p:blipFill>
          <a:blip r:embed="rId2"/>
          <a:stretch/>
        </p:blipFill>
        <p:spPr>
          <a:xfrm>
            <a:off x="3060720" y="2779560"/>
            <a:ext cx="302256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5:30:16Z</dcterms:created>
  <dc:creator>Bill Gates</dc:creator>
  <dc:description/>
  <dc:language>en-US</dc:language>
  <cp:lastModifiedBy>Smets</cp:lastModifiedBy>
  <dcterms:modified xsi:type="dcterms:W3CDTF">2008-10-12T03:36:30Z</dcterms:modified>
  <cp:revision>47</cp:revision>
  <dc:subject/>
  <dc:title>Dia 1</dc:title>
</cp:coreProperties>
</file>