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296-D3C2-44D3-808F-EE53D7D3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55CE-93CA-4DE7-910B-4515CB01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CA8-6352-4AC5-AD5E-E73C0AAA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B62-FF8F-42CC-9B0D-E3399571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7435-05BF-4DC3-B428-29387868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9B1-D845-4CAC-8A06-D7BA501A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34D-2CC0-4CD5-AD35-8378CF7D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1B2C-B729-4D13-B77B-B437CE7F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E13-B8F0-4402-A3C5-6C68FFE7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AED-2C3F-4371-8DFB-A26D532B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DEDD-EBCA-4FD2-B0D2-21024657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0DD-15B7-4008-AE12-CE07B617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89481-005C-49DF-A75C-04A3D85649F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9646B-E21B-4CCC-B983-A2B7DFA1C51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7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8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10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1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2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3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4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12:34:24Z</dcterms:created>
  <dc:creator>최봉수</dc:creator>
  <dc:description/>
  <dc:language>en-US</dc:language>
  <cp:lastModifiedBy>맛있다 군만두</cp:lastModifiedBy>
  <dcterms:modified xsi:type="dcterms:W3CDTF">2024-10-01T02:58:12Z</dcterms:modified>
  <cp:revision>4</cp:revision>
  <dc:subject/>
  <dc:title>슬라이드 1</dc:title>
</cp:coreProperties>
</file>