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160F-D8C4-498C-9FEC-8F44D51F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AEFC-345F-40CE-BC94-4DCE7697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6D67-EC19-439B-A423-F4B3900A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702B-FCD3-4AA9-AFE3-3F47DE2F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C58D-58FA-48EA-8265-81F8149A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65B8-BE79-4582-BEE1-3E3ACC6D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8418-A2E6-4530-B412-B2383EA9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8C07-F21F-4151-9DB0-595303E7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3F84-C6C5-4B05-957B-39F95535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3DD9-8286-4A13-BE2A-51F9958D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497D-907A-4F92-BC3E-65976953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EEB8-E5DF-4BB0-B05B-ECF08497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D19D8-8A1E-4852-92E8-CB71DE513B0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BFAF2-4447-4C8E-87ED-B0115E79DE7F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7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8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10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1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2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3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4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12:34:24Z</dcterms:created>
  <dc:creator>최봉수</dc:creator>
  <dc:description/>
  <dc:language>en-US</dc:language>
  <cp:lastModifiedBy>맛있다 군만두</cp:lastModifiedBy>
  <dcterms:modified xsi:type="dcterms:W3CDTF">2024-10-01T02:58:12Z</dcterms:modified>
  <cp:revision>4</cp:revision>
  <dc:subject/>
  <dc:title>슬라이드 1</dc:title>
</cp:coreProperties>
</file>