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196-3204-4474-A118-D662929F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9926-79AB-4F01-9186-C41082EA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7190-4EAC-44D2-9DE5-59198B120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21B8-291E-4857-8FDE-5A2760BA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9DF9-A7B6-4264-A384-C58D0AEE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55B-202B-4424-826F-9B0151AA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4FFE-D505-4672-BB42-42CCB32D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39AB-F6F4-45EA-A56E-5DEB083D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69E-E289-44CB-951F-31C19FA3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DB1-ABFB-48B8-B7F8-674FAE3A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7AE-08E9-4DDB-AD46-BBCE9C04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1D55-EF59-49FF-9BEC-281A8228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AEE37-F0C1-4F52-AD0F-0704EE7D0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4DEAE-5BD2-4CDD-9506-D35DEC8EE881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4:57:31Z</dcterms:created>
  <dc:creator>최봉수</dc:creator>
  <dc:description/>
  <dc:language>en-US</dc:language>
  <cp:lastModifiedBy>군만두 맛있다</cp:lastModifiedBy>
  <dcterms:modified xsi:type="dcterms:W3CDTF">2023-07-12T06:10:33Z</dcterms:modified>
  <cp:revision>3</cp:revision>
  <dc:subject/>
  <dc:title>슬라이드 1</dc:title>
</cp:coreProperties>
</file>