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43D-144B-40E5-9E47-4F335A15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E6D-4B5F-4361-99B2-4DD90837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9B5-37F7-43EA-BF52-0DBC2954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31E-D4E2-4E27-931F-CD611D9E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938-957A-4F45-835A-DC520089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484-EF55-43FD-BACD-B68E7D44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A38-46EB-4B0A-97E1-1EE4DBFE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3CB-A909-4996-AF01-D8ACC05D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FA6-6AB8-44A7-A890-598B89B6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C96-513C-4398-8FCF-4566288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2C5-D9B6-4C02-992C-4ECA363A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7BB-A3A6-46AA-8999-81B80D21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201A0-DF0C-4632-86D4-1ED25974B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12422-3E85-4A48-9D42-3AF4EAD8172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4:57:31Z</dcterms:created>
  <dc:creator>최봉수</dc:creator>
  <dc:description/>
  <dc:language>en-US</dc:language>
  <cp:lastModifiedBy>군만두 맛있다</cp:lastModifiedBy>
  <dcterms:modified xsi:type="dcterms:W3CDTF">2023-07-12T06:10:33Z</dcterms:modified>
  <cp:revision>3</cp:revision>
  <dc:subject/>
  <dc:title>슬라이드 1</dc:title>
</cp:coreProperties>
</file>